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58EAF-3FDC-4AFB-99F5-CFA56F17B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B7B14-12F5-4EFF-8E54-635151D2F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7EA11-DB87-41EC-AE37-83900D6A5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570B0-9CA1-4BAB-9B06-C7C0A58CA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5ACBA-6C27-4318-B233-44C46F004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A0A49-FCF5-4259-901F-06E0EB8AC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CE3C5-3BA0-4464-BC98-31AE1D162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CF0F5-2CD8-4BF4-9A6C-939F1D1C4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278A2-4188-4FAD-85B9-7D2D5F5B7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93857-7D19-458B-A321-F6058CD47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539BE-5DC2-423D-9B34-18D4F227D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7E13C-BD83-4FD7-B909-2AF3D712C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CC07-A2D7-458E-A5DA-6B98FE038DA8}"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minedu.sk/"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 I.</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ov</a:t>
            </a:r>
            <a:endParaRPr b="0" lang="en-US" sz="1500" spc="-1" strike="noStrike">
              <a:solidFill>
                <a:srgbClr val="000000"/>
              </a:solidFill>
              <a:latin typeface="Calibri"/>
            </a:endParaRPr>
          </a:p>
        </p:txBody>
      </p:sp>
      <p:sp>
        <p:nvSpPr>
          <p:cNvPr id="43" name="BlokTextu 5"/>
          <p:cNvSpPr/>
          <p:nvPr/>
        </p:nvSpPr>
        <p:spPr>
          <a:xfrm>
            <a:off x="539640" y="5429160"/>
            <a:ext cx="3240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               </a:t>
            </a:r>
            <a:r>
              <a:rPr b="1" lang="sk-SK" sz="1400" spc="-1" strike="noStrike">
                <a:solidFill>
                  <a:srgbClr val="7f7f7f"/>
                </a:solidFill>
                <a:latin typeface="Calibri"/>
              </a:rPr>
              <a:t>Informačné seminá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výzva </a:t>
            </a:r>
            <a:r>
              <a:rPr b="0" lang="sk-SK" sz="1400" spc="-1" strike="noStrike">
                <a:solidFill>
                  <a:srgbClr val="7f7f7f"/>
                </a:solidFill>
                <a:latin typeface="Calibri"/>
              </a:rPr>
              <a:t>č.</a:t>
            </a:r>
            <a:r>
              <a:rPr b="0" lang="sk-SK" sz="1400" spc="-1" strike="noStrike">
                <a:solidFill>
                  <a:srgbClr val="000000"/>
                </a:solidFill>
                <a:latin typeface="Arial"/>
              </a:rPr>
              <a:t> </a:t>
            </a:r>
            <a:r>
              <a:rPr b="0" lang="sk-SK" sz="1400" spc="-1" strike="noStrike">
                <a:solidFill>
                  <a:srgbClr val="7f7f7f"/>
                </a:solidFill>
                <a:latin typeface="Calibri"/>
              </a:rPr>
              <a:t>OPLZ-PO1/2018/DOP/1.1.1-01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a:t>
            </a:r>
            <a:r>
              <a:rPr b="1" lang="sk-SK" sz="1400" spc="-1" strike="noStrike">
                <a:solidFill>
                  <a:srgbClr val="7f7f7f"/>
                </a:solidFill>
                <a:latin typeface="Calibri"/>
              </a:rPr>
              <a:t>Čitateľská, matematická a prírodovedná gramotnosť v základnej ško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použitia systému zálohových platieb sa úhrada uskutočňuje z prostriedkov poskytnutej zálohovej platby. </a:t>
            </a:r>
            <a:r>
              <a:rPr b="1" lang="sk-SK" sz="1800" spc="-1" strike="noStrike">
                <a:solidFill>
                  <a:srgbClr val="ff0000"/>
                </a:solidFill>
                <a:latin typeface="Calibri"/>
              </a:rPr>
              <a:t>Žiadosť o zálohovú platbu </a:t>
            </a:r>
            <a:r>
              <a:rPr b="1" lang="sk-SK" sz="1800" spc="-1" strike="noStrike">
                <a:solidFill>
                  <a:srgbClr val="00b050"/>
                </a:solidFill>
                <a:latin typeface="Calibri"/>
              </a:rPr>
              <a:t>prijímateľ vystaví v systéme IMS 2014+ vo verejnej časti. Prijímateľ vypracuje žiadosť o zálohovú platbu – v elektronickej a písomnej podobe. Písomnú podobu ŽoP prijímateľ predloží na SO. ŽoP pozostáva z vyplneného formuláru (definované v Systéme finančného riadenia štrukturálnych fondov a Kohézneho fondu na programové obdobie 2014-2020). Písomnú ŽoP podpísanú štatutárom prijímateľ zašle na SO, ktoré ŽoP spracuje a postúpi na platobnú jednotku, ktorá zašle prijímateľovi finančné prostriedk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zistenia nedostatkov SO písomne s doručenkou alebo elektronicky e-mailom s potvrdením doručenia a prečítania vyzve prijímateľa, aby v stanovenej lehote doplnil / zmenil žiadosť o platbu. Za vyzvanie sprostredkovateľským orgánom je možné považovať aj doručenie návrhu správy z kontroly v prípade, ak boli počas kontroly zistené nedostatky. </a:t>
            </a:r>
            <a:endParaRPr b="0" lang="en-US" sz="1800" spc="-1" strike="noStrike">
              <a:solidFill>
                <a:srgbClr val="000000"/>
              </a:solidFill>
              <a:latin typeface="Calibri"/>
            </a:endParaRPr>
          </a:p>
        </p:txBody>
      </p:sp>
      <p:pic>
        <p:nvPicPr>
          <p:cNvPr id="62" name="Obrázok 1" descr="Geld – Wiktionary"/>
          <p:cNvPicPr/>
          <p:nvPr/>
        </p:nvPicPr>
        <p:blipFill>
          <a:blip r:embed="rId1"/>
          <a:stretch/>
        </p:blipFill>
        <p:spPr>
          <a:xfrm>
            <a:off x="7093080" y="351000"/>
            <a:ext cx="1979640" cy="99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boli v rámci kontroly zistené nedostatky je projektový manažér SO povinný vypracovať návrh správy z kontroly s určením lehoty na podanie námietok.</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á na podanie námietok lehotu 5 pracovných dní odo dňa doručenia návrhu správy z kontroly prijímateľovi. V prípade, ak SO neakceptuje námietky podané prijímateľom, resp. prijímateľ v stanovenej lehote nedoručí námietky, resp. ak prijímateľ doručí oznámenie, že nemá námietky k návrhu správy z kontroly, SO vypracuje správu z kontroly ŽoP a zašle správu z kontroly písomne s doručenkou alebo elektronicky e-mailom s potvrdením doručenia a prečítania prijímateľovi. Momentom ukončenia kontroly je zaslanie správy z kontroly. </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SO úplne alebo sčasti akceptuje námietky podané prijímateľom, zapracuje námietky do správy z kontroly. SO vypracuje správu z kontroly a zašle správu z kontroly písomne s doručenkou alebo elektronicky e-mailom s potvrdením doručenia a prečítania prijímateľovi. Za moment ukončenia kontroly je v takomto prípade považovaný moment zaslania tejto správy z kontroly prijímateľov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kontrolou neboli zistené nedostatky, vypracuje SO správu z kontroly a zašle správu z kontroly písomne s doručenkou alebo elektronicky e-mailom s potvrdením doručenia a prečítania prijímateľovi. Momentom ukončenia kontroly je zaslanie správy prijímateľov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O predloží spracovanú žiadosť o zálohovú platbu na platobnú jednotku, ktorá zašle prijímateľovi finančné prostriedk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je povinný poskytnutú zálohovú platbu zúčtovať do 9 mesiacov od poskytnutia.</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36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a:t>
            </a:r>
            <a:br>
              <a:rPr sz="3600"/>
            </a:br>
            <a:r>
              <a:rPr b="0" lang="sk-SK" sz="3600" spc="-1" strike="noStrike">
                <a:solidFill>
                  <a:srgbClr val="ff0000"/>
                </a:solidFill>
                <a:latin typeface="Calibri"/>
              </a:rPr>
              <a:t>platby</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v rámci zúčtovania zálohovej platby predkladá žiadosť o platbu (</a:t>
            </a:r>
            <a:r>
              <a:rPr b="1" lang="sk-SK" sz="1800" spc="-1" strike="noStrike">
                <a:solidFill>
                  <a:srgbClr val="ff0000"/>
                </a:solidFill>
                <a:latin typeface="Calibri"/>
              </a:rPr>
              <a:t>zúčtovanie zálohovej platby</a:t>
            </a:r>
            <a:r>
              <a:rPr b="1" lang="sk-SK" sz="1800" spc="-1" strike="noStrike">
                <a:solidFill>
                  <a:srgbClr val="00b050"/>
                </a:solidFill>
                <a:latin typeface="Calibri"/>
              </a:rPr>
              <a:t>) sprostredkovateľskému orgánu elektronicky prostredníctvom ITMS2014+ aj písomne. Prijímateľ predkladá spolu so žiadosťou o platbu (zúčtovanie zálohovej platby) aj účtovné doklady (preukazujúce úhradu výdavku deklarovaného v žiadosti o platbu) a relevantnú podpornú dokumentáciu, ktorej minimálny rozsah stanovuje Systém riadenia európskych štrukturálnych a investičných fondov na programové obdobie 2014 – 2020 a Príručka pre prijímateľa.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počas spracovania žiadosti o zúčtovanie zálohovej platby nahrá v systéme ITMS 2014+ účtovné doklady v časti „účtovné doklady“ a v časti „deklarované výdavky“ priradí výdavok ku konkrétnej rozpočtovej položke – číslu rozpočtovej položky zo schváleného rozpočtu. Zároveň vypíše požadovanú výšku deklarovaného výdavku.</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 name="Obrázok 3" descr="Geld – Wiktionary"/>
          <p:cNvPicPr/>
          <p:nvPr/>
        </p:nvPicPr>
        <p:blipFill>
          <a:blip r:embed="rId1"/>
          <a:stretch/>
        </p:blipFill>
        <p:spPr>
          <a:xfrm>
            <a:off x="6948360" y="907920"/>
            <a:ext cx="1979640" cy="9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ojektový  manažér SO vo vzťahu k žiadosti o platbu (zúčtovanie zálohovej platby) postupuje obdobne ako pri etape poskytnutia zálohovej platby.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 vykonaní administratívnej finančnej kontroly žiadosti o platbu SO žiadosť o platbu :</a:t>
            </a:r>
            <a:endParaRPr b="0" lang="en-US" sz="1800" spc="-1" strike="noStrike">
              <a:solidFill>
                <a:srgbClr val="000000"/>
              </a:solidFill>
              <a:latin typeface="Calibri"/>
            </a:endParaRPr>
          </a:p>
          <a:p>
            <a:pPr lvl="1" marL="743040" indent="-2858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schváli (schváli deklarované výdavky v plnej výške), </a:t>
            </a:r>
            <a:endParaRPr b="0" lang="en-US" sz="1800" spc="-1" strike="noStrike">
              <a:solidFill>
                <a:srgbClr val="000000"/>
              </a:solidFill>
              <a:latin typeface="Calibri"/>
            </a:endParaRPr>
          </a:p>
          <a:p>
            <a:pPr lvl="1" marL="743040" indent="-2858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žiadosť o platbu schváli v zníženej sume (schváli deklarované výdavky vo výške zníženej o sumu neoprávnených výdavkov), </a:t>
            </a:r>
            <a:endParaRPr b="0" lang="en-US" sz="1800" spc="-1" strike="noStrike">
              <a:solidFill>
                <a:srgbClr val="000000"/>
              </a:solidFill>
              <a:latin typeface="Calibri"/>
            </a:endParaRPr>
          </a:p>
          <a:p>
            <a:pPr lvl="1" marL="743040" indent="-2858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žiadosť o platbu schváli v zníženej sume (schváli deklarované výdavky bez deklarovaných výdavkov, ktoré sú predmetom samostatnej kontroly, resp. schváli deklarované výdavky, ktoré sú predmetom samostatnej kontroly), </a:t>
            </a:r>
            <a:endParaRPr b="0" lang="en-US" sz="1800" spc="-1" strike="noStrike">
              <a:solidFill>
                <a:srgbClr val="000000"/>
              </a:solidFill>
              <a:latin typeface="Calibri"/>
            </a:endParaRPr>
          </a:p>
          <a:p>
            <a:pPr lvl="1" marL="743040" indent="-2858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alebo žiadosť o platbu zamietne bezodkladne, najneskôr však v lehote 25 pracovných dní od prijatia žiadosti o platbu od prijímateľa SO.</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zistenia nedostatkov SO vyzve písomne s doručenkou alebo elektronicky        e-mailom s potvrdením doručenia a prečítania prijímateľa, aby v stanovenej lehote doplnil / zmenil žiadosť o platbu. Za vyzvanie sprostredkovateľským orgánom je možné považovať aj doručenie návrhu správy z kontroly v prípade, ak boli počas kontroly zistené nedostatky. </a:t>
            </a: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čas výkonu administratívnej finančnej kontroly žiadosti o platbu vykonáva v prípade potreby aj samostatnú kontrolu </a:t>
            </a:r>
            <a:r>
              <a:rPr b="1" lang="sk-SK" sz="1800" spc="-1" strike="noStrike">
                <a:solidFill>
                  <a:srgbClr val="ff0000"/>
                </a:solidFill>
                <a:latin typeface="Calibri"/>
              </a:rPr>
              <a:t>vyčlenenej časti deklarovaných výdavkov</a:t>
            </a:r>
            <a:r>
              <a:rPr b="1" lang="sk-SK" sz="1800" spc="-1" strike="noStrike">
                <a:solidFill>
                  <a:srgbClr val="00b050"/>
                </a:solidFill>
                <a:latin typeface="Calibri"/>
              </a:rPr>
              <a:t> z predloženej žiadosti o platbu. V prípade výkonu samostatnej kontroly SO schváli deklarované výdavky, ktoré boli predmetom samostatnej kontroly v plnej výške, schváli deklarované výdavky, ktoré boli predmetom samostatnej kontroly vo výške zníženej o sumu neoprávnených výdavkov, schváli deklarované výdavky, ktoré boli predmetom samostatnej kontroly vo výške zníženej o sumu deklarovaných výdavkov, ktoré sú predmetom ďalšej samostatnej kontroly, schvaľovanie pozastaví alebo zamietne bezodkladne, najneskôr však v lehote 25 pracovných dní od prijatia žiadosti o platbu od prijímateľa.</a:t>
            </a: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5" name=""/>
          <p:cNvSpPr txBox="1"/>
          <p:nvPr/>
        </p:nvSpPr>
        <p:spPr>
          <a:xfrm>
            <a:off x="539280" y="1267920"/>
            <a:ext cx="8147160" cy="4815000"/>
          </a:xfrm>
          <a:prstGeom prst="rect">
            <a:avLst/>
          </a:prstGeom>
          <a:noFill/>
          <a:ln w="0">
            <a:noFill/>
          </a:ln>
        </p:spPr>
        <p:txBody>
          <a:bodyPr anchor="t">
            <a:normAutofit fontScale="98000"/>
          </a:bodyPr>
          <a:p>
            <a:pPr marL="335880" indent="-3358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každom z uvedených prípadov predkladá projektový manažér SO platobnej jednotke príslušnú časť formulára žiadosti o platbu, v ktorej sa uvádza výška schválených výdavkov.</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boli v rámci kontroly zistené nedostatky je SO povinné vypracovať návrh správy z kontroly s určením lehoty na podanie námietok. Návrh správy z kontroly  je SO povinné doručiť návrh správy z kontroly prijímateľovi (písomne s doručenkou alebo elektronicky e-mailom s potvrdením doručenia a prečítania).</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á na podanie námietok lehotu 5 pracovných dní odo dňa doručenia návrhu správy z kontroly prijímateľovi. V prípade, ak SO neakceptuje námietky podané prijímateľom, resp. prijímateľ v stanovenej lehote nedoručí námietky, resp. ak prijímateľ doručí oznámenie, že nemá námietky k návrhu správy z kontroly, SO vypracuje správu z kontroly a zašle správu z kontroly </a:t>
            </a:r>
            <a:r>
              <a:rPr b="1" lang="cs-CZ" sz="1800" spc="-1" strike="noStrike">
                <a:solidFill>
                  <a:srgbClr val="00b050"/>
                </a:solidFill>
                <a:latin typeface="Calibri"/>
              </a:rPr>
              <a:t>písomne s doručenkou alebo elektronicky e-mailom s potvrdením doručenia a prečítania</a:t>
            </a:r>
            <a:r>
              <a:rPr b="1" lang="sk-SK" sz="1800" spc="-1" strike="noStrike">
                <a:solidFill>
                  <a:srgbClr val="00b050"/>
                </a:solidFill>
                <a:latin typeface="Calibri"/>
              </a:rPr>
              <a:t> prijímateľovi. Momentom ukončenia kontroly je zaslanie správy z kontroly. </a:t>
            </a:r>
            <a:endParaRPr b="0" lang="en-US" sz="1800" spc="-1" strike="noStrike">
              <a:solidFill>
                <a:srgbClr val="000000"/>
              </a:solidFill>
              <a:latin typeface="Calibri"/>
            </a:endParaRPr>
          </a:p>
          <a:p>
            <a:pPr marL="335880" indent="-3358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SO akceptuje námietky podané prijímateľom, je povinný zohľadniť opodstatnenosť týchto námietok v správe z kontroly, t.j. zapracuje námietky do správy z kontroly. SO vypracuje správu z kontroly a zašle správu z kontroly písomne s doručenkou alebo elektronicky e-mailom s potvrdením doručenia a prečítania prijímateľovi. Za moment ukončenia kontroly je v takomto prípade považovaný moment zaslania tejto správy z kontroly prijímateľov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kontrolou neboli zistené nedostatky, vypracuje SO správu z kontroly a zašle správu z kontroly písomne s doručenkou alebo elektronicky  e-mailom s potvrdením doručenia a prečítania prijímateľovi Momentom ukončenia kontroly je zaslanie správy prijímateľovi.</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 doručení správy od prijímateľa SO predloží žiadosť o zúčtovanie zálohovej platby na platobnú jednotku.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refundácie</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ôže použiť pri implementácii projektu systém </a:t>
            </a:r>
            <a:r>
              <a:rPr b="1" lang="sk-SK" sz="1800" spc="-1" strike="noStrike">
                <a:solidFill>
                  <a:srgbClr val="ff0000"/>
                </a:solidFill>
                <a:latin typeface="Calibri"/>
              </a:rPr>
              <a:t>refundácie</a:t>
            </a:r>
            <a:r>
              <a:rPr b="1" lang="sk-SK" sz="1800" spc="-1" strike="noStrike">
                <a:solidFill>
                  <a:srgbClr val="00b050"/>
                </a:solidFill>
                <a:latin typeface="Calibri"/>
              </a:rPr>
              <a:t> – úhrada z vlastných finančných prostriedkov a následné nárokovanie výdavku na SO. Prijímateľ vystavuje v systéme ITMS2014+ </a:t>
            </a:r>
            <a:r>
              <a:rPr b="1" lang="sk-SK" sz="1800" spc="-1" strike="noStrike">
                <a:solidFill>
                  <a:srgbClr val="ff0000"/>
                </a:solidFill>
                <a:latin typeface="Calibri"/>
              </a:rPr>
              <a:t>Žiadosť o priebežnú platbu</a:t>
            </a: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O postupuje obdobne pri spracovaní Žiadosti o priebežnú platbu ako pri etape zúčtovania zálohovej platby.</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0" name="Obrázok 5" descr="Geld – Wiktionary"/>
          <p:cNvPicPr/>
          <p:nvPr/>
        </p:nvPicPr>
        <p:blipFill>
          <a:blip r:embed="rId1"/>
          <a:stretch/>
        </p:blipFill>
        <p:spPr>
          <a:xfrm>
            <a:off x="6948360" y="351000"/>
            <a:ext cx="1979640" cy="99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9280" y="188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Oprávnené výdavky - výzva</a:t>
            </a:r>
            <a:endParaRPr b="0" lang="en-US" sz="3600" spc="-1" strike="noStrike">
              <a:solidFill>
                <a:srgbClr val="000000"/>
              </a:solidFill>
              <a:latin typeface="Calibri"/>
            </a:endParaRPr>
          </a:p>
        </p:txBody>
      </p:sp>
      <p:sp>
        <p:nvSpPr>
          <p:cNvPr id="82" name=""/>
          <p:cNvSpPr txBox="1"/>
          <p:nvPr/>
        </p:nvSpPr>
        <p:spPr>
          <a:xfrm>
            <a:off x="499680" y="1197000"/>
            <a:ext cx="8186760" cy="518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02 - Dlhodobý hmotný majetok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022 - Samostatné hnuteľné veci a súbory hnuteľných vecí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029 - Ostatný dlhodobý hmotný majetok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11 - Zásoby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112 - Zásoby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35 - Dotácie, príspevky a transfery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352 - Poskytnutie dotácií, príspevkov voči tretím osobám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50 - Spotreba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02 - Spotreba energi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51 - Služby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11 - Opravy a udržiavanie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12 - Cestovné náhrady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18 - Ostatné služb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a:bodyPr>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naložený výdavok je v súlade s platnými všeobecne záväznými právnymi predpismi (napr. zákon  č. 18/1996 Z. z. o cenách v znení neskorších predpisov, Zákonník práce, Občiansky zákonník);</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ky sú vynaložené v súlade s cieľom prioritnej osi č. 1 Vzdelávanie OP ĽZ, na aktivitu v súlade s obsahovou stránkou projektu a sú plne v súlade s cieľmi projektu, výdavky prispievajú k dosiahnutiu plánovaných aktivít projektu;</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skutočne vynaložený medzi 1. januárom 2014 a dňom ukončenia realizácie aktivít projektu nie však neskôr ako 31. decembra 2023. SO môže stanoviť užšie kritériá pre počiatočný a koncový dátum oprávnenosti výdavkov (oprávnenosť výdavkov začína plynúť dňom účinnosti zmluvy o poskytnutí NFP);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ff0000"/>
                </a:solidFill>
                <a:latin typeface="Calibri"/>
              </a:rPr>
              <a:t>Oprávnené výdavky – výzva</a:t>
            </a:r>
            <a:endParaRPr b="0" lang="en-US" sz="4400" spc="-1" strike="noStrike">
              <a:solidFill>
                <a:srgbClr val="000000"/>
              </a:solidFill>
              <a:latin typeface="Calibri"/>
            </a:endParaRPr>
          </a:p>
        </p:txBody>
      </p:sp>
      <p:sp>
        <p:nvSpPr>
          <p:cNvPr id="84" name=""/>
          <p:cNvSpPr txBox="1"/>
          <p:nvPr/>
        </p:nvSpPr>
        <p:spPr>
          <a:xfrm>
            <a:off x="499680" y="1412640"/>
            <a:ext cx="8186760" cy="4895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2 - Osobné výdavky </a:t>
            </a:r>
            <a:endParaRPr b="0" lang="en-US" sz="20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21 - Mzdové výdavky (vrátane odmien za prácu vykonávanú mimo pracovného pomeru, platov, povinných odvodov za zamestnávateľa a iných zákonných náhrad) </a:t>
            </a:r>
            <a:endParaRPr b="0" lang="en-US" sz="1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4 - Ostatné výdavky </a:t>
            </a:r>
            <a:endParaRPr b="0" lang="en-US" sz="20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48 - Výdavky na prevádzkovú činnosť </a:t>
            </a:r>
            <a:endParaRPr b="0" lang="en-US" sz="1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5 - Odpisy </a:t>
            </a:r>
            <a:endParaRPr b="0" lang="en-US" sz="20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51 - Odpisy </a:t>
            </a:r>
            <a:endParaRPr b="0" lang="en-US" sz="1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6 - Finančné výdavky a poplatky </a:t>
            </a:r>
            <a:endParaRPr b="0" lang="en-US" sz="20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68 - Ostatné finančné výdavky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02 - Paušálna sadzba na nepriame výdavky určené na základe nákladov na zamestnancov</a:t>
            </a:r>
            <a:r>
              <a:rPr b="0" i="1" lang="sk-SK" sz="2000" spc="-1" strike="noStrike">
                <a:solidFill>
                  <a:srgbClr val="000000"/>
                </a:solidFill>
                <a:latin typeface="Calibri"/>
              </a:rPr>
              <a:t> </a:t>
            </a:r>
            <a:r>
              <a:rPr b="1" lang="sk-SK" sz="1800" spc="-1" strike="noStrike">
                <a:solidFill>
                  <a:srgbClr val="00b050"/>
                </a:solidFill>
                <a:latin typeface="Calibri"/>
              </a:rPr>
              <a:t>(nariadenie 1303/2013, čl. 68 ods. 1, písm. b) </a:t>
            </a:r>
            <a:endParaRPr b="0" lang="en-US" sz="1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10 - Jednotkové výdavk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a:t>
            </a:r>
            <a:r>
              <a:rPr b="1" i="1" lang="pt-BR" sz="2000" spc="-1" strike="noStrike">
                <a:solidFill>
                  <a:srgbClr val="000000"/>
                </a:solidFill>
                <a:latin typeface="Calibri"/>
              </a:rPr>
              <a:t>30 - Rezerva na nepredvídané výdavk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priame výdavky.</a:t>
            </a:r>
            <a:endParaRPr b="0" lang="en-US" sz="2400" spc="-1" strike="noStrike">
              <a:solidFill>
                <a:srgbClr val="000000"/>
              </a:solidFill>
              <a:latin typeface="Calibri"/>
            </a:endParaRPr>
          </a:p>
        </p:txBody>
      </p:sp>
      <p:sp>
        <p:nvSpPr>
          <p:cNvPr id="86" name=""/>
          <p:cNvSpPr txBox="1"/>
          <p:nvPr/>
        </p:nvSpPr>
        <p:spPr>
          <a:xfrm>
            <a:off x="394920" y="1125000"/>
            <a:ext cx="8064360" cy="4967640"/>
          </a:xfrm>
          <a:prstGeom prst="rect">
            <a:avLst/>
          </a:prstGeom>
          <a:noFill/>
          <a:ln w="0">
            <a:noFill/>
          </a:ln>
        </p:spPr>
        <p:txBody>
          <a:bodyPr anchor="t">
            <a:normAutofit fontScale="97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ú výdavky na uskutočnenie činností preukázateľne priamo súvisiacich s konkrétnou činnosťou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ersonálne výdavky interné - koordinačné činnosti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ersonálne výdavky interné – odborné činnosti </a:t>
            </a:r>
            <a:endParaRPr b="0" lang="en-US" sz="1800" spc="-1" strike="noStrike">
              <a:solidFill>
                <a:srgbClr val="000000"/>
              </a:solidFill>
              <a:latin typeface="Calibri"/>
            </a:endParaRPr>
          </a:p>
          <a:p>
            <a:pPr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libri"/>
              </a:rPr>
              <a:t>školiaci materiál a potreby pre aktivity projektu </a:t>
            </a:r>
            <a:endParaRPr b="0" lang="en-US" sz="1800" spc="-1" strike="noStrike">
              <a:solidFill>
                <a:srgbClr val="000000"/>
              </a:solidFill>
              <a:latin typeface="Calibri"/>
            </a:endParaRPr>
          </a:p>
          <a:p>
            <a:pPr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evádzkové výdavky iba v rozsahu na uskutočnenie realizácie jednotlivých aktivít projektu (spotrebný tovar a prevádzkový materiál, voda, plyn, elektrická energia, poštovné, telekomunikačné poplatky, spojovacie siet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nákup hmotného a nehmotného majetku (okrem nehnuteľností) </a:t>
            </a:r>
            <a:r>
              <a:rPr b="1" lang="sk-SK" sz="1800" spc="-1" strike="noStrike">
                <a:solidFill>
                  <a:srgbClr val="00b050"/>
                </a:solidFill>
                <a:latin typeface="Calibri"/>
              </a:rPr>
              <a:t>- obstaranie zariadenia/vybavenia a didaktických prostriedkov pre hlavné aktivity projektu (vrátane nehmotného majetku) – max. 30% limit z oprávnených priamych výdavkov rozpočtu - nezapočíta sa položka riziková prirážka </a:t>
            </a:r>
            <a:endParaRPr b="0" lang="en-US" sz="1800" spc="-1" strike="noStrike">
              <a:solidFill>
                <a:srgbClr val="000000"/>
              </a:solidFill>
              <a:latin typeface="Calibri"/>
            </a:endParaRPr>
          </a:p>
          <a:p>
            <a:pPr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cestovné náhrady odborného personálu, expertov, školiteľov, lektorov – tuzemské a zahraničné pracovné cesty - </a:t>
            </a:r>
            <a:r>
              <a:rPr b="1" lang="sk-SK" sz="1800" spc="-1" strike="noStrike">
                <a:solidFill>
                  <a:srgbClr val="000000"/>
                </a:solidFill>
                <a:latin typeface="Calibri"/>
              </a:rPr>
              <a:t>oprávnené iba pre </a:t>
            </a:r>
            <a:r>
              <a:rPr b="1" lang="sk-SK" sz="1800" spc="-1" strike="noStrike">
                <a:solidFill>
                  <a:srgbClr val="00b050"/>
                </a:solidFill>
                <a:latin typeface="Calibri"/>
              </a:rPr>
              <a:t>mimoškolskú činnosť a pre vzdelávanie pedagogických a odborných zamestnancov zabezpečené dodávateľsky (t.j. neaplikuje sa/nevyužíva sa v prípade využitia štandardných stupníc jednotkových nákladov);</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99680" y="274320"/>
            <a:ext cx="818676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priame výdavky</a:t>
            </a:r>
            <a:endParaRPr b="0" lang="en-US" sz="2400" spc="-1" strike="noStrike">
              <a:solidFill>
                <a:srgbClr val="000000"/>
              </a:solidFill>
              <a:latin typeface="Calibri"/>
            </a:endParaRPr>
          </a:p>
        </p:txBody>
      </p:sp>
      <p:sp>
        <p:nvSpPr>
          <p:cNvPr id="88" name=""/>
          <p:cNvSpPr txBox="1"/>
          <p:nvPr/>
        </p:nvSpPr>
        <p:spPr>
          <a:xfrm>
            <a:off x="610920" y="980640"/>
            <a:ext cx="8281800" cy="4969080"/>
          </a:xfrm>
          <a:prstGeom prst="rect">
            <a:avLst/>
          </a:prstGeom>
          <a:noFill/>
          <a:ln w="0">
            <a:noFill/>
          </a:ln>
        </p:spPr>
        <p:txBody>
          <a:bodyPr anchor="t">
            <a:normAutofit fontScale="99000"/>
          </a:bodyPr>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íspevok (finančného alebo nefinančného charakteru) pre frekventantov, ako aj náhrady mzdy vrátane odvodov zamestnávateľa zúčastnených osôb (frekventantov), výdavky spojené so stravovaním, ubytovaním, cestovným) </a:t>
            </a:r>
            <a:endParaRPr b="0" lang="en-US" sz="1800" spc="-1" strike="noStrike">
              <a:solidFill>
                <a:srgbClr val="000000"/>
              </a:solidFill>
              <a:latin typeface="Calibri"/>
            </a:endParaRPr>
          </a:p>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občerstvenie do výšky 1 500 EUR na projekt za podmienky, že nesmie byť poskytnuté súčasne v ten istý deň s výdavkom na stravné (napr. pre odborný personál, frekventantov) a zároveň nesmie presiahnuť výšku stravného pri tuzemských pracovných cestách v časovom pásme od 5 do 12 hodín na osobu/deň podľa opatrenia Ministerstva práce, sociálnych vecí a rodiny Slovenskej republiky o sumách stravného; </a:t>
            </a:r>
            <a:endParaRPr b="0" lang="en-US" sz="1800" spc="-1" strike="noStrike">
              <a:solidFill>
                <a:srgbClr val="000000"/>
              </a:solidFill>
              <a:latin typeface="Calibri"/>
            </a:endParaRPr>
          </a:p>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radenské a konzultačné služby (napr. právne poradenstvo)</a:t>
            </a:r>
            <a:endParaRPr b="0" lang="en-US" sz="1800" spc="-1" strike="noStrike">
              <a:solidFill>
                <a:srgbClr val="000000"/>
              </a:solidFill>
              <a:latin typeface="Calibri"/>
            </a:endParaRPr>
          </a:p>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platok za vykonanie skúšky, získanie certifikátu (úhrada výdavkov frekventantov);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dodávky na priame výdavky projektu </a:t>
            </a:r>
            <a:r>
              <a:rPr b="1" lang="sk-SK" sz="1800" spc="-1" strike="noStrike">
                <a:solidFill>
                  <a:srgbClr val="00b050"/>
                </a:solidFill>
                <a:latin typeface="Calibri"/>
              </a:rPr>
              <a:t>- realizácia vzdelávacích a iných hlavných aktivít projektu (napr. tvorba metodík, učebných osnov) prostredníctvom vzťahov, ktoré majú odberateľsko-dodávateľský charakter – dodávky na priame výdavky projektu -  max 10. % limit z oprávnených priamych výdavkov rozpočtu – nezapočítava sa riziková prirážka (dodávkou na priame výdavky projektu sa</a:t>
            </a:r>
            <a:endParaRPr b="0" lang="en-US" sz="1800" spc="-1" strike="noStrike">
              <a:solidFill>
                <a:srgbClr val="000000"/>
              </a:solidFill>
              <a:latin typeface="Calibri"/>
            </a:endParaRPr>
          </a:p>
          <a:p>
            <a:pPr marL="339480" indent="-3394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priame výdavky</a:t>
            </a:r>
            <a:endParaRPr b="0" lang="en-US" sz="2400" spc="-1" strike="noStrike">
              <a:solidFill>
                <a:srgbClr val="000000"/>
              </a:solidFill>
              <a:latin typeface="Calibri"/>
            </a:endParaRPr>
          </a:p>
        </p:txBody>
      </p:sp>
      <p:sp>
        <p:nvSpPr>
          <p:cNvPr id="90" name=""/>
          <p:cNvSpPr txBox="1"/>
          <p:nvPr/>
        </p:nvSpPr>
        <p:spPr>
          <a:xfrm>
            <a:off x="611280" y="1052280"/>
            <a:ext cx="8075520" cy="511308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sa rozumie vykonávanie činností spojených s implementáciou projektu, t.j. odborných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činnosti, napr. tvorba vzdelávacích programov; rôzne vzdelávacie činnosti; preklady); D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dodávok sa nezahŕňa najmä obstaranie didaktických prostriedkov, IKT, nájom priestorov,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tlač</a:t>
            </a:r>
            <a:endParaRPr b="0" lang="en-US" sz="1600" spc="-1" strike="noStrike">
              <a:solidFill>
                <a:srgbClr val="000000"/>
              </a:solidFill>
              <a:latin typeface="Calibri"/>
            </a:endParaRPr>
          </a:p>
          <a:p>
            <a:pPr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súvisiace s akreditáciou programu, certifikáciou</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odpisy ak obstaraný odpisovaný majetok (hmotný/nehmotný majetok) </a:t>
            </a:r>
            <a:r>
              <a:rPr b="1" lang="sk-SK" sz="1600" spc="-1" strike="noStrike">
                <a:solidFill>
                  <a:srgbClr val="000000"/>
                </a:solidFill>
                <a:latin typeface="Calibri"/>
              </a:rPr>
              <a:t>nebol </a:t>
            </a:r>
            <a:r>
              <a:rPr b="1" lang="sk-SK" sz="1600" spc="-1" strike="noStrike">
                <a:solidFill>
                  <a:srgbClr val="00b050"/>
                </a:solidFill>
                <a:latin typeface="Calibri"/>
              </a:rPr>
              <a:t>financovaný z akýchkoľvek verejných zdrojov (zdroje EÚ, štátny rozpočet, zdroje obce, VÚC a iné verejné zdroje</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ydavateľská činnosť (príprava, výroba, tlač, distribúcia);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monitoring (monitorovacia správa, hodnotenie projektu,...)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riziková prirážka rozpočtovaná vo výške do 5% oprávnených výdavkov (priamych a nepriamych výdavkov projektu);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ydavateľská činnosť (príprava, výroba, tlač, distribúcia);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monitoring (monitorovacia správa, hodnotenie projektu,...)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riziková prirážka rozpočtovaná vo výške do 5% oprávnených výdavkov (priamych a nepriamych výdavkov projektu); </a:t>
            </a:r>
            <a:endParaRPr b="0" lang="en-US" sz="16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23640" y="33300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nepriame výdavky  </a:t>
            </a:r>
            <a:endParaRPr b="0" lang="en-US" sz="2400" spc="-1" strike="noStrike">
              <a:solidFill>
                <a:srgbClr val="000000"/>
              </a:solidFill>
              <a:latin typeface="Calibri"/>
            </a:endParaRPr>
          </a:p>
        </p:txBody>
      </p:sp>
      <p:sp>
        <p:nvSpPr>
          <p:cNvPr id="92" name=""/>
          <p:cNvSpPr txBox="1"/>
          <p:nvPr/>
        </p:nvSpPr>
        <p:spPr>
          <a:xfrm>
            <a:off x="468000" y="1413000"/>
            <a:ext cx="8186760" cy="4752720"/>
          </a:xfrm>
          <a:prstGeom prst="rect">
            <a:avLst/>
          </a:prstGeom>
          <a:noFill/>
          <a:ln w="0">
            <a:noFill/>
          </a:ln>
        </p:spPr>
        <p:txBody>
          <a:bodyPr anchor="t">
            <a:normAutofit fontScale="99000"/>
          </a:bodyPr>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majú charakter bežných výdavkov (prevádzková réžia) a slúžia na financovanie podporných aktivít projektu. Nepriame výdavky (režijné výdavky) sú také výdavky, ktoré nie sú, resp. nemôžu byť priamo priradené k niektorej z hlavných aktivít projektu</a:t>
            </a:r>
            <a:endParaRPr b="0" lang="en-US" sz="1800" spc="-1" strike="noStrike">
              <a:solidFill>
                <a:srgbClr val="000000"/>
              </a:solidFill>
              <a:latin typeface="Calibri"/>
            </a:endParaRPr>
          </a:p>
          <a:p>
            <a:pPr marL="339480" indent="-3394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Nepriame výdavky sa uplatňujú </a:t>
            </a:r>
            <a:r>
              <a:rPr b="1" lang="sk-SK" sz="1600" spc="-1" strike="noStrike" u="sng">
                <a:solidFill>
                  <a:srgbClr val="ff0000"/>
                </a:solidFill>
                <a:uFillTx/>
                <a:latin typeface="Calibri"/>
              </a:rPr>
              <a:t>ako 15% paušálna sadzba z priamych personálnych výdavkov (presne 15%)</a:t>
            </a:r>
            <a:r>
              <a:rPr b="1" lang="sk-SK" sz="1600" spc="-1" strike="noStrike">
                <a:solidFill>
                  <a:srgbClr val="000000"/>
                </a:solidFill>
                <a:latin typeface="Calibri"/>
              </a:rPr>
              <a:t>. V každej žiadosti o platbu obsahujúcej priame personálne výdavky, môže byť nároková 15% paušálna sadzba na nepriame výdavky; ekonomické klasifikácia 637033</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sobné výdavky prijímateľa, resp. partnera, ktoré súvisia s výkonom týchto činností:</a:t>
            </a:r>
            <a:endParaRPr b="0" lang="en-US" sz="16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ípravná fáza realizácie projektu (napr. príprava žiadosti o NFP);</a:t>
            </a:r>
            <a:endParaRPr b="0" lang="en-US" sz="18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ávne poradenstvo (napr. spisovanie listín o právnych úkonoch, spracúvanie právnych rozborov);</a:t>
            </a:r>
            <a:endParaRPr b="0" lang="en-US" sz="18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ublicita a informovanosť projektu; </a:t>
            </a:r>
            <a:endParaRPr b="0" lang="en-US" sz="18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edenie účtovníctva; </a:t>
            </a:r>
            <a:endParaRPr b="0" lang="en-US" sz="18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edenie agendy personalistiky a miezd; </a:t>
            </a:r>
            <a:endParaRPr b="0" lang="en-US" sz="18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erejné obstarávanie (vrátane prieskumu trh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nepriame výdavky  </a:t>
            </a:r>
            <a:endParaRPr b="0" lang="en-US" sz="2400" spc="-1" strike="noStrike">
              <a:solidFill>
                <a:srgbClr val="000000"/>
              </a:solidFill>
              <a:latin typeface="Calibri"/>
            </a:endParaRPr>
          </a:p>
        </p:txBody>
      </p:sp>
      <p:sp>
        <p:nvSpPr>
          <p:cNvPr id="94" name=""/>
          <p:cNvSpPr txBox="1"/>
          <p:nvPr/>
        </p:nvSpPr>
        <p:spPr>
          <a:xfrm>
            <a:off x="499680" y="1412640"/>
            <a:ext cx="8186760" cy="4537080"/>
          </a:xfrm>
          <a:prstGeom prst="rect">
            <a:avLst/>
          </a:prstGeom>
          <a:noFill/>
          <a:ln w="0">
            <a:noFill/>
          </a:ln>
        </p:spPr>
        <p:txBody>
          <a:bodyPr anchor="t">
            <a:normAutofit/>
          </a:bodyPr>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obslužné činnosti (upratovanie, čistenie, rozmnožovanie materiálov a pod.); </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opravy a údržbu majetku využívaného pre účely projektu; </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edenie vozidla využívaného personálom projektu; </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ontrola a odborný dohľad (vrátane riadenia organizáci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davky na obstaranie služieb nevyhnutných pre vyššie uvedené činnosti:</a:t>
            </a:r>
            <a:endParaRPr b="0" lang="en-US" sz="16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externé služby súvisiace s publicitou a informovanosťou spojenou s realizáciou projektu; </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externé vedenie účtovníctva;</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externé vedenie agendy personalistiky a miezd;</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externé zabezpečenie verejného obstarávania, prieskumu trhu;</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externé zabezpečenie hygieny (upratovanie, čistenie a pod.);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nepriame výdavky  </a:t>
            </a:r>
            <a:endParaRPr b="0" lang="en-US" sz="2400" spc="-1" strike="noStrike">
              <a:solidFill>
                <a:srgbClr val="000000"/>
              </a:solidFill>
              <a:latin typeface="Calibri"/>
            </a:endParaRPr>
          </a:p>
        </p:txBody>
      </p:sp>
      <p:sp>
        <p:nvSpPr>
          <p:cNvPr id="96" name=""/>
          <p:cNvSpPr txBox="1"/>
          <p:nvPr/>
        </p:nvSpPr>
        <p:spPr>
          <a:xfrm>
            <a:off x="504720" y="1052280"/>
            <a:ext cx="8182080" cy="5113080"/>
          </a:xfrm>
          <a:prstGeom prst="rect">
            <a:avLst/>
          </a:prstGeom>
          <a:noFill/>
          <a:ln w="0">
            <a:noFill/>
          </a:ln>
        </p:spPr>
        <p:txBody>
          <a:bodyPr anchor="t">
            <a:normAutofit/>
          </a:bodyPr>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externé zabezpečenie opráv a údržby majetku využívaného pre účely projektu;</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externé zabezpečenie prepravy tovaru a osôb, okrem osôb cieľovej skupiny a odborného personálu (napr. lektorov);</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externé zabezpečenie kontroly a odborného dohľadu;</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externé zabezpečenie právneho poradenstva.</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bežné výdavky na obstaranie majetku; okrem majetku, ktorý výlučne používa odborný personál a osoby cieľovej skupin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ostatné výdavky</a:t>
            </a:r>
            <a:r>
              <a:rPr b="1" lang="sk-SK" sz="1800" spc="-1" strike="noStrike">
                <a:solidFill>
                  <a:srgbClr val="00b050"/>
                </a:solidFill>
                <a:latin typeface="Calibri"/>
              </a:rPr>
              <a:t>:</a:t>
            </a:r>
            <a:endParaRPr b="0" lang="en-US" sz="18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enájom zariadenia/vybavenia a priestorov, ktoré sú využívané na účely projektu;  okrem zariadenia/vybavenia a priestorov, ktoré sa používa výlučne v rámci hlavných aktivít projektu a využíva ho len cieľová skupina, prípadne odborný personál projektu;</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šetky výdavky súvisiace s publicitou a informovanosťou spojenou s realizáciou projektu, napr. propagačné predmety a letáky, tlačové konferencie o projekte (vrátane občerstvenia, prenájmu priestorov a pod.), publikovaním článkov o projekte, televíznych a rozhlasových relácií a pod.;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oštovné;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telekomunikačné poplatky;</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nepriame výdavky  </a:t>
            </a:r>
            <a:endParaRPr b="0" lang="en-US" sz="2400" spc="-1" strike="noStrike">
              <a:solidFill>
                <a:srgbClr val="000000"/>
              </a:solidFill>
              <a:latin typeface="Calibri"/>
            </a:endParaRPr>
          </a:p>
        </p:txBody>
      </p:sp>
      <p:sp>
        <p:nvSpPr>
          <p:cNvPr id="98" name=""/>
          <p:cNvSpPr txBox="1"/>
          <p:nvPr/>
        </p:nvSpPr>
        <p:spPr>
          <a:xfrm>
            <a:off x="499680" y="1483920"/>
            <a:ext cx="8186760" cy="4537080"/>
          </a:xfrm>
          <a:prstGeom prst="rect">
            <a:avLst/>
          </a:prstGeom>
          <a:noFill/>
          <a:ln w="0">
            <a:noFill/>
          </a:ln>
        </p:spPr>
        <p:txBody>
          <a:bodyPr anchor="t">
            <a:normAutofit/>
          </a:bodyPr>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ceniny (poštové známky a kolky, stravné poukážky pre zamestnancov vykonávajúcich činnosti </a:t>
            </a:r>
            <a:r>
              <a:rPr b="1" lang="sk-SK" sz="1600" spc="-1" strike="noStrike">
                <a:solidFill>
                  <a:srgbClr val="00b050"/>
                </a:solidFill>
                <a:latin typeface="Calibri"/>
              </a:rPr>
              <a:t>pre projekt);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cestovné náhrady pre zamestnancov vykonávajúcich činnosti pre projekt;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prevádzku vozidla využívaného pri vykonávaní činnosti pre projekt;</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energie ako sú voda, plyn, elektrická energia a pod., ktoré vznikli v súvislosti s vykonávanými činnosťami pre projekt;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odpisy majetku využívaného pri činnostiach projektu;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obstaranie spotrebného tovaru a prevádzkového materiálu (papier, písacie potreby, čistiace prostriedky a pod.);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úhradu poplatkov, napr. notárskych, správnych, bankových poplatkov;</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poradenstvo (právne, daňové, účtovné a pod.);</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oistenie majetku;</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práva informačných systémov.</a:t>
            </a:r>
            <a:endParaRPr b="0" lang="en-US" sz="16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274320"/>
            <a:ext cx="80326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osť výdavkov – základné pravidlá</a:t>
            </a:r>
            <a:endParaRPr b="0" lang="en-US" sz="2400" spc="-1" strike="noStrike">
              <a:solidFill>
                <a:srgbClr val="000000"/>
              </a:solidFill>
              <a:latin typeface="Calibri"/>
            </a:endParaRPr>
          </a:p>
        </p:txBody>
      </p:sp>
      <p:sp>
        <p:nvSpPr>
          <p:cNvPr id="100" name=""/>
          <p:cNvSpPr txBox="1"/>
          <p:nvPr/>
        </p:nvSpPr>
        <p:spPr>
          <a:xfrm>
            <a:off x="499680" y="1268280"/>
            <a:ext cx="8186760" cy="460872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1" lang="sk-SK" sz="1600" spc="-1" strike="noStrike">
                <a:solidFill>
                  <a:srgbClr val="00b05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Žiadateľ </a:t>
            </a:r>
            <a:r>
              <a:rPr b="1" lang="sk-SK" sz="1600" spc="-1" strike="noStrike">
                <a:solidFill>
                  <a:srgbClr val="000000"/>
                </a:solidFill>
                <a:latin typeface="Calibri"/>
              </a:rPr>
              <a:t>je povinný aplikovať v rozpočte nasledovné zjednodušené vykazovanie výdavkov:</a:t>
            </a:r>
            <a:r>
              <a:rPr b="1" lang="sk-SK" sz="1600" spc="-1" strike="noStrike">
                <a:solidFill>
                  <a:srgbClr val="00b05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15% paušálna sadzba na nepriame výdavky </a:t>
            </a:r>
            <a:r>
              <a:rPr b="1" lang="sk-SK" sz="1600" spc="-1" strike="noStrike">
                <a:solidFill>
                  <a:srgbClr val="00b050"/>
                </a:solidFill>
                <a:latin typeface="Calibri"/>
              </a:rPr>
              <a:t>určené na základe nákladov na zamestnancov (nariadenie 1303/2013, čl. 68 ods. 1, písm. b)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štandardná stupnica jednotkových nákladov „</a:t>
            </a:r>
            <a:r>
              <a:rPr b="1" lang="sk-SK" sz="1600" spc="-1" strike="noStrike">
                <a:solidFill>
                  <a:srgbClr val="000000"/>
                </a:solidFill>
                <a:latin typeface="Calibri"/>
              </a:rPr>
              <a:t>hodinová sadzba učiteľa podľa kategórie škôl (ZŠ, SŠ) – zvýšené hodiny strávené vzdelávacími aktivitami“ (extra hodiny)</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štandardná stupnica jednotkových nákladov „</a:t>
            </a:r>
            <a:r>
              <a:rPr b="1" lang="sk-SK" sz="1600" spc="-1" strike="noStrike">
                <a:solidFill>
                  <a:srgbClr val="000000"/>
                </a:solidFill>
                <a:latin typeface="Calibri"/>
              </a:rPr>
              <a:t>pedagogické kluby</a:t>
            </a:r>
            <a:r>
              <a:rPr b="1" lang="sk-SK" sz="1600" spc="-1" strike="noStrike">
                <a:solidFill>
                  <a:srgbClr val="00b050"/>
                </a:solidFill>
                <a:latin typeface="Calibri"/>
              </a:rPr>
              <a:t>“</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štandardná stupnica jednotkových nákladov „</a:t>
            </a:r>
            <a:r>
              <a:rPr b="1" lang="sk-SK" sz="1600" spc="-1" strike="noStrike">
                <a:solidFill>
                  <a:srgbClr val="000000"/>
                </a:solidFill>
                <a:latin typeface="Calibri"/>
              </a:rPr>
              <a:t>vzdelávanie pedagogických a odborných zamestnancov““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 </a:t>
            </a:r>
            <a:r>
              <a:rPr b="1" lang="sk-SK" sz="1600" spc="-1" strike="noStrike">
                <a:solidFill>
                  <a:srgbClr val="00b050"/>
                </a:solidFill>
                <a:latin typeface="Calibri"/>
              </a:rPr>
              <a:t>(napr. zákon o verejnom obstarávaní, zákon o účtovníctve, zákonník práce</a:t>
            </a:r>
            <a:r>
              <a:rPr b="0" lang="sk-SK"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0040" y="274320"/>
            <a:ext cx="81043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Personálne výdavky</a:t>
            </a:r>
            <a:br>
              <a:rPr sz="2400"/>
            </a:br>
            <a:endParaRPr b="0" lang="en-US" sz="2400" spc="-1" strike="noStrike">
              <a:solidFill>
                <a:srgbClr val="000000"/>
              </a:solidFill>
              <a:latin typeface="Calibri"/>
            </a:endParaRPr>
          </a:p>
        </p:txBody>
      </p:sp>
      <p:sp>
        <p:nvSpPr>
          <p:cNvPr id="102" name=""/>
          <p:cNvSpPr txBox="1"/>
          <p:nvPr/>
        </p:nvSpPr>
        <p:spPr>
          <a:xfrm>
            <a:off x="755640" y="907560"/>
            <a:ext cx="8042400" cy="504036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nepriame personálne výdavky na riadenie projektu</a:t>
            </a:r>
            <a:r>
              <a:rPr b="0" lang="sk-SK" sz="1600" spc="-1" strike="noStrike">
                <a:solidFill>
                  <a:srgbClr val="000000"/>
                </a:solidFill>
                <a:latin typeface="Calibri"/>
              </a:rPr>
              <a:t> </a:t>
            </a:r>
            <a:r>
              <a:rPr b="0" lang="sk-SK" sz="1400" spc="-1" strike="noStrike">
                <a:solidFill>
                  <a:srgbClr val="000000"/>
                </a:solidFill>
                <a:latin typeface="Calibri"/>
              </a:rPr>
              <a:t>– </a:t>
            </a:r>
            <a:r>
              <a:rPr b="1" lang="sk-SK" sz="1600" spc="-1" strike="noStrike">
                <a:solidFill>
                  <a:srgbClr val="00b050"/>
                </a:solidFill>
                <a:latin typeface="Calibri"/>
              </a:rPr>
              <a:t>hlavný manažér projektu (spravidla štatutárny zástupca organizácie), manažér pre publicitu, koordinátor aktivity, pracovník pre verejné obstarávanie, ekonomický personál (napr. účtovník, rozpočtár, personalista)  - zaradené </a:t>
            </a:r>
            <a:r>
              <a:rPr b="1" lang="sk-SK" sz="1600" spc="-1" strike="noStrike">
                <a:solidFill>
                  <a:srgbClr val="000000"/>
                </a:solidFill>
                <a:latin typeface="Calibri"/>
              </a:rPr>
              <a:t>do 15% paušálnej sadzby v rozpočte v časti 1 Nepriame výdavky</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ame</a:t>
            </a:r>
            <a:r>
              <a:rPr b="0" lang="sk-SK" sz="1600" spc="-1" strike="noStrike">
                <a:solidFill>
                  <a:srgbClr val="000000"/>
                </a:solidFill>
                <a:latin typeface="Calibri"/>
              </a:rPr>
              <a:t> </a:t>
            </a:r>
            <a:r>
              <a:rPr b="1" lang="sk-SK" sz="1600" spc="-1" strike="noStrike">
                <a:solidFill>
                  <a:srgbClr val="000000"/>
                </a:solidFill>
                <a:latin typeface="Calibri"/>
              </a:rPr>
              <a:t>personálne výdavky na riadenie projektu </a:t>
            </a:r>
            <a:r>
              <a:rPr b="1" lang="sk-SK" sz="1400" spc="-1" strike="noStrike">
                <a:solidFill>
                  <a:srgbClr val="000000"/>
                </a:solidFill>
                <a:latin typeface="Calibri"/>
              </a:rPr>
              <a:t>– </a:t>
            </a:r>
            <a:r>
              <a:rPr b="1" lang="sk-SK" sz="1600" spc="-1" strike="noStrike">
                <a:solidFill>
                  <a:srgbClr val="00b050"/>
                </a:solidFill>
                <a:latin typeface="Calibri"/>
              </a:rPr>
              <a:t>projektový manažér, finančný manažér/hlavný manažér, administratívny personál, manažér monitorovania – zaradené  v rozpočte v časti 3 Koordinácia projektu; kvalifikačné predpoklady – príloha č .11 výzv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a:t>
            </a:r>
            <a:r>
              <a:rPr b="0" lang="sk-SK" sz="1600" spc="-1" strike="noStrike">
                <a:solidFill>
                  <a:srgbClr val="000000"/>
                </a:solidFill>
                <a:latin typeface="Calibri"/>
              </a:rPr>
              <a:t> </a:t>
            </a:r>
            <a:r>
              <a:rPr b="1" lang="sk-SK" sz="1600" spc="-1" strike="noStrike">
                <a:solidFill>
                  <a:srgbClr val="00b050"/>
                </a:solidFill>
                <a:latin typeface="Calibri"/>
              </a:rPr>
              <a:t>zahŕňa výdavky vzniknuté na základe pracovnoprávnych vzťahov alebo obdobných vzťahov (napr. zákonník práce, zákon o štátnej služb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a:t>
            </a:r>
            <a:r>
              <a:rPr b="1" lang="sk-SK" sz="1600" spc="-1" strike="noStrike">
                <a:solidFill>
                  <a:srgbClr val="00b050"/>
                </a:solidFill>
                <a:latin typeface="Calibri"/>
              </a:rPr>
              <a:t>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sobohodiny</a:t>
            </a:r>
            <a:r>
              <a:rPr b="0" lang="sk-SK" sz="1400" spc="-1" strike="noStrike">
                <a:solidFill>
                  <a:srgbClr val="000000"/>
                </a:solidFill>
                <a:latin typeface="Calibri"/>
              </a:rPr>
              <a:t> </a:t>
            </a:r>
            <a:r>
              <a:rPr b="1" lang="sk-SK" sz="1600" spc="-1" strike="noStrike">
                <a:solidFill>
                  <a:srgbClr val="00b050"/>
                </a:solidFill>
                <a:latin typeface="Calibri"/>
              </a:rPr>
              <a:t>ako jednotka</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meranosť ceny práce</a:t>
            </a:r>
            <a:r>
              <a:rPr b="0" lang="sk-SK" sz="1600" spc="-1" strike="noStrike">
                <a:solidFill>
                  <a:srgbClr val="000000"/>
                </a:solidFill>
                <a:latin typeface="Calibri"/>
              </a:rPr>
              <a:t> </a:t>
            </a:r>
            <a:r>
              <a:rPr b="1" lang="sk-SK" sz="1600" spc="-1" strike="noStrike">
                <a:solidFill>
                  <a:srgbClr val="00b050"/>
                </a:solidFill>
                <a:latin typeface="Calibri"/>
              </a:rPr>
              <a:t>– zodpovedať cene práce v organizácii resp. primeraná/obvyklá cene práce  na trhu pre danú pozíciu v danom čase a miest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Všeobecné pravidlá oprávnenosti výdavkov </a:t>
            </a:r>
            <a:endParaRPr b="0" lang="en-US" sz="36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realizovaný na oprávnenom území;</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primeraný, t.j. zodpovedá obvyklým cenám v danom mieste a čase a zodpovedá potrebám projektu;</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pĺňa podmienky hospodárnosti, efektívnosti a účelnosti</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je preukázaný faktúrami alebo účtovnými dokladmi rovnocennej dôkaznej hodnoty, ktoré sú riadne evidované v účtovníctve prijímateľa v súlade s platnými všeobecne záväznými právnymi predpismi a podmienkami definovanými Systémom riadenia EIŠF a zmluvou o poskytnutí NFP;</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intenzita podpory udelená z programov financovaných z fondov EÚ nesmie presiahnuť povolenú intenzitu verejnej podpory, ktorá vyplýva z právnych predpisov EÚ</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Personálne výdavky</a:t>
            </a:r>
            <a:br>
              <a:rPr sz="2400"/>
            </a:br>
            <a:endParaRPr b="0" lang="en-US" sz="2400" spc="-1" strike="noStrike">
              <a:solidFill>
                <a:srgbClr val="000000"/>
              </a:solidFill>
              <a:latin typeface="Calibri"/>
            </a:endParaRPr>
          </a:p>
        </p:txBody>
      </p:sp>
      <p:sp>
        <p:nvSpPr>
          <p:cNvPr id="104" name=""/>
          <p:cNvSpPr txBox="1"/>
          <p:nvPr/>
        </p:nvSpPr>
        <p:spPr>
          <a:xfrm>
            <a:off x="539640" y="1268280"/>
            <a:ext cx="8229600" cy="5400720"/>
          </a:xfrm>
          <a:prstGeom prst="rect">
            <a:avLst/>
          </a:prstGeom>
          <a:noFill/>
          <a:ln w="0">
            <a:noFill/>
          </a:ln>
        </p:spPr>
        <p:txBody>
          <a:bodyPr anchor="t">
            <a:normAutofit/>
          </a:bodyPr>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realizácia činnosti </a:t>
            </a:r>
            <a:r>
              <a:rPr b="1" lang="sk-SK" sz="16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600" spc="-1" strike="noStrike">
                <a:solidFill>
                  <a:srgbClr val="000000"/>
                </a:solidFill>
                <a:latin typeface="Calibri"/>
              </a:rPr>
              <a:t> </a:t>
            </a:r>
            <a:r>
              <a:rPr b="1" lang="sk-SK" sz="1600" spc="-1" strike="noStrike">
                <a:solidFill>
                  <a:srgbClr val="00b050"/>
                </a:solidFill>
                <a:latin typeface="Calibri"/>
              </a:rPr>
              <a:t>vykonávať osoby, ktoré sú v pracovnoprávnom vzťahu k žiadateľovi a to ani prostredníctvom  iných právnických, resp. fyzických osôb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hody o prácach vykonávaných mimo pracovného pomeru</a:t>
            </a:r>
            <a:r>
              <a:rPr b="0" lang="sk-SK" sz="1600" spc="-1" strike="noStrike">
                <a:solidFill>
                  <a:srgbClr val="000000"/>
                </a:solidFill>
                <a:latin typeface="Calibri"/>
              </a:rPr>
              <a:t> </a:t>
            </a:r>
            <a:r>
              <a:rPr b="1" lang="sk-SK" sz="1600" spc="-1" strike="noStrike">
                <a:solidFill>
                  <a:srgbClr val="00b050"/>
                </a:solidFill>
                <a:latin typeface="Calibri"/>
              </a:rPr>
              <a:t>- špecifickosť dohôd – 2 rozpočtové položky – jedna odmena za prácu -  637027 (jednotka osobohodiny); druhá odvody – 610620 (jednotka projek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5080" y="58320"/>
            <a:ext cx="81342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Zariadenie</a:t>
            </a:r>
            <a:r>
              <a:rPr b="1" lang="sk-SK" sz="2000" spc="-1" strike="noStrike">
                <a:solidFill>
                  <a:srgbClr val="e46c0a"/>
                </a:solidFill>
                <a:latin typeface="Calibri"/>
              </a:rPr>
              <a:t> </a:t>
            </a:r>
            <a:r>
              <a:rPr b="0" lang="sk-SK" sz="2400" spc="-1" strike="noStrike">
                <a:solidFill>
                  <a:srgbClr val="ff0000"/>
                </a:solidFill>
                <a:latin typeface="Calibri"/>
              </a:rPr>
              <a:t>a vybavenie</a:t>
            </a:r>
            <a:endParaRPr b="0" lang="en-US" sz="2400" spc="-1" strike="noStrike">
              <a:solidFill>
                <a:srgbClr val="000000"/>
              </a:solidFill>
              <a:latin typeface="Calibri"/>
            </a:endParaRPr>
          </a:p>
        </p:txBody>
      </p:sp>
      <p:sp>
        <p:nvSpPr>
          <p:cNvPr id="106" name="PlaceHolder 2"/>
          <p:cNvSpPr>
            <a:spLocks noGrp="1"/>
          </p:cNvSpPr>
          <p:nvPr>
            <p:ph/>
          </p:nvPr>
        </p:nvSpPr>
        <p:spPr>
          <a:xfrm>
            <a:off x="325440" y="764640"/>
            <a:ext cx="8361360" cy="5688360"/>
          </a:xfrm>
          <a:prstGeom prst="rect">
            <a:avLst/>
          </a:prstGeom>
          <a:noFill/>
          <a:ln w="0">
            <a:noFill/>
          </a:ln>
        </p:spPr>
        <p:txBody>
          <a:bodyPr anchor="t">
            <a:normAutofit fontScale="97000"/>
          </a:bodyPr>
          <a:p>
            <a:pPr marL="332640" indent="-3326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riadenie/vybavenie projektu</a:t>
            </a:r>
            <a:r>
              <a:rPr b="0" lang="sk-SK" sz="1600" spc="-1" strike="noStrike">
                <a:solidFill>
                  <a:srgbClr val="000000"/>
                </a:solidFill>
                <a:latin typeface="Calibri"/>
              </a:rPr>
              <a:t> - </a:t>
            </a:r>
            <a:r>
              <a:rPr b="1" lang="sk-SK" sz="1600" spc="-1" strike="noStrike">
                <a:solidFill>
                  <a:srgbClr val="00b050"/>
                </a:solidFill>
                <a:latin typeface="Calibri"/>
              </a:rPr>
              <a:t>je možné zaradiť vybavenie, zariadenie, výpočtovú techniku, prístroje, stroje, nehmotný majetok (napr. software, licencie), dotykové pomôcky, mapy, kostry, obrazy, nákresy, tabule, modely (trojrozmerné pomôcky, zväčšené, zmenšené, statické, dynamické), zobrazenia – plošné pomôcky (fotografie, obrazy, mapy), špeciálne pomôcky (slúžia na znázornenie javov), multimediálne pomôcky a podobne  </a:t>
            </a:r>
            <a:r>
              <a:rPr b="0" lang="sk-SK" sz="1600" spc="-1" strike="noStrike">
                <a:solidFill>
                  <a:srgbClr val="000000"/>
                </a:solidFill>
                <a:latin typeface="Calibri"/>
              </a:rPr>
              <a:t>- </a:t>
            </a:r>
            <a:r>
              <a:rPr b="1" lang="sk-SK" sz="1600" spc="-1" strike="noStrike">
                <a:solidFill>
                  <a:srgbClr val="000000"/>
                </a:solidFill>
                <a:latin typeface="Calibri"/>
              </a:rPr>
              <a:t>nevyhnutnosť pre realizáciu projektu spolufinancovaného z ESF (previazanosť na aktivity – zdôvodnenie nákupu v časti Spôsob realizácie aktivít projektu ŽoNFP) – </a:t>
            </a:r>
            <a:r>
              <a:rPr b="0" lang="sk-SK" sz="1600" spc="-1" strike="noStrike">
                <a:solidFill>
                  <a:srgbClr val="000000"/>
                </a:solidFill>
                <a:latin typeface="Calibri"/>
              </a:rPr>
              <a:t>zákon o VO</a:t>
            </a:r>
            <a:endParaRPr b="0" lang="en-US" sz="1600" spc="-1" strike="noStrike">
              <a:solidFill>
                <a:srgbClr val="000000"/>
              </a:solidFill>
              <a:latin typeface="Calibri"/>
            </a:endParaRPr>
          </a:p>
          <a:p>
            <a:pPr marL="332640" indent="-3326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infraštruktúra nie je oprávnený výdavok</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nehmotný majetok, ako napr. softvéry a IT systémy nespadajú pod definíciu infraštruktúry, považujú sa za zariadenie a vybavenie </a:t>
            </a:r>
            <a:r>
              <a:rPr b="0" lang="sk-SK" sz="1600" spc="-1" strike="noStrike">
                <a:solidFill>
                  <a:srgbClr val="000000"/>
                </a:solidFill>
                <a:latin typeface="Calibri"/>
              </a:rPr>
              <a:t>– </a:t>
            </a:r>
            <a:r>
              <a:rPr b="0" lang="sk-SK" sz="1600" spc="-1" strike="noStrike">
                <a:solidFill>
                  <a:srgbClr val="ff0000"/>
                </a:solidFill>
                <a:latin typeface="Calibri"/>
              </a:rPr>
              <a:t>pre výzvu dlhodobý nehmotný majetok nie je oprávnený</a:t>
            </a:r>
            <a:endParaRPr b="0" lang="en-US" sz="1600" spc="-1" strike="noStrike">
              <a:solidFill>
                <a:srgbClr val="000000"/>
              </a:solidFill>
              <a:latin typeface="Calibri"/>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u="sng">
                <a:solidFill>
                  <a:srgbClr val="000000"/>
                </a:solidFill>
                <a:uFillTx/>
                <a:latin typeface="Calibri"/>
              </a:rPr>
              <a:t>Príklady:</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hardware, nábytok – zariadenie, oprávnené pre financovanie z ESF</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igitálne databázy, softvér, majetkové práva a služby – nepovažujú sa za infraštruktúru, oprávnené pre financovanie z ESF</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kabeláž – považuje sa za infraštruktúru, ak sa stane stálou súčasťou zariadenia;  </a:t>
            </a:r>
            <a:r>
              <a:rPr b="1" lang="sk-SK" sz="1600" spc="-1" strike="noStrike">
                <a:solidFill>
                  <a:srgbClr val="000000"/>
                </a:solidFill>
                <a:latin typeface="Calibri"/>
              </a:rPr>
              <a:t>nie je </a:t>
            </a:r>
            <a:r>
              <a:rPr b="1" lang="sk-SK" sz="1600" spc="-1" strike="noStrike">
                <a:solidFill>
                  <a:srgbClr val="00b050"/>
                </a:solidFill>
                <a:latin typeface="Calibri"/>
              </a:rPr>
              <a:t>oprávnené z ESF</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klimatizácia a elektrické generátory - považujú sa za infraštruktúru, ak sa stali stálou súčasťou zariadenia; za zariadenie sa považujú ak ostanú mobilné/prenosné, vtedy sú oprávnené z ESF </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 rámci zariadenia/vybavenia je možné zaradiť </a:t>
            </a:r>
            <a:r>
              <a:rPr b="1" lang="sk-SK" sz="1600" spc="-1" strike="noStrike">
                <a:solidFill>
                  <a:srgbClr val="000000"/>
                </a:solidFill>
                <a:latin typeface="Calibri"/>
              </a:rPr>
              <a:t>odpisy dlhodobého</a:t>
            </a:r>
            <a:r>
              <a:rPr b="0" lang="sk-SK" sz="1600" spc="-1" strike="noStrike">
                <a:solidFill>
                  <a:srgbClr val="000000"/>
                </a:solidFill>
                <a:latin typeface="Calibri"/>
              </a:rPr>
              <a:t> </a:t>
            </a:r>
            <a:r>
              <a:rPr b="1" lang="sk-SK" sz="1600" spc="-1" strike="noStrike">
                <a:solidFill>
                  <a:srgbClr val="000000"/>
                </a:solidFill>
                <a:latin typeface="Calibri"/>
              </a:rPr>
              <a:t>hmotného a nehmotného majetku</a:t>
            </a:r>
            <a:r>
              <a:rPr b="0" lang="sk-SK" sz="1600" spc="-1" strike="noStrike">
                <a:solidFill>
                  <a:srgbClr val="000000"/>
                </a:solidFill>
                <a:latin typeface="Calibri"/>
              </a:rPr>
              <a:t> </a:t>
            </a:r>
            <a:r>
              <a:rPr b="1" lang="sk-SK" sz="1600" spc="-1" strike="noStrike">
                <a:solidFill>
                  <a:srgbClr val="00b050"/>
                </a:solidFill>
                <a:latin typeface="Calibri"/>
              </a:rPr>
              <a:t>ako súčasť výdavkov súvisiacich s implementáciou projektu, ktoré musia byť v súlade so zákonom NR SR č. 595/2003 Z. z. o daniach z príjmov v znení neskorších predpisov </a:t>
            </a:r>
            <a:r>
              <a:rPr b="0" lang="sk-SK" sz="1600" spc="-1" strike="noStrike">
                <a:solidFill>
                  <a:srgbClr val="000000"/>
                </a:solidFill>
                <a:latin typeface="Calibri"/>
              </a:rPr>
              <a:t>-  </a:t>
            </a:r>
            <a:r>
              <a:rPr b="1" lang="sk-SK" sz="1600" spc="-1" strike="noStrike">
                <a:solidFill>
                  <a:srgbClr val="000000"/>
                </a:solidFill>
                <a:latin typeface="Calibri"/>
              </a:rPr>
              <a:t>Odpisy dlhodobého hmotného a nehmotného majetku používaného na účely projektu sú oprávneným výdavkom počas realizácie projektu za predpokladu, že nákup takéhoto majetku nie je súčasťou oprávnených výdavkov na projekt</a:t>
            </a:r>
            <a:r>
              <a:rPr b="0" lang="sk-SK" sz="1600" spc="-1" strike="noStrike">
                <a:solidFill>
                  <a:srgbClr val="000000"/>
                </a:solidFill>
                <a:latin typeface="Calibri"/>
              </a:rPr>
              <a:t>. </a:t>
            </a:r>
            <a:r>
              <a:rPr b="1" lang="sk-SK" sz="1600" spc="-1" strike="noStrike">
                <a:solidFill>
                  <a:srgbClr val="000000"/>
                </a:solidFill>
                <a:latin typeface="Calibri"/>
              </a:rPr>
              <a:t>Prijímateľ si nesmie nárokovať na majetok jeho obstarávaciu cenu, t.j. obstaranie majetku a zároveň aj príslušné odpisy </a:t>
            </a:r>
            <a:endParaRPr b="0" lang="en-US" sz="1600" spc="-1" strike="noStrike">
              <a:solidFill>
                <a:srgbClr val="000000"/>
              </a:solidFill>
              <a:latin typeface="Calibri"/>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Obdĺžnik 1"/>
          <p:cNvSpPr/>
          <p:nvPr/>
        </p:nvSpPr>
        <p:spPr>
          <a:xfrm>
            <a:off x="611280" y="404640"/>
            <a:ext cx="79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statné výdavky</a:t>
            </a:r>
            <a:endParaRPr b="0" lang="en-US" sz="2400" spc="-1" strike="noStrike">
              <a:solidFill>
                <a:srgbClr val="000000"/>
              </a:solidFill>
              <a:latin typeface="Arial"/>
            </a:endParaRPr>
          </a:p>
        </p:txBody>
      </p:sp>
      <p:sp>
        <p:nvSpPr>
          <p:cNvPr id="108" name="Obdĺžnik 2"/>
          <p:cNvSpPr/>
          <p:nvPr/>
        </p:nvSpPr>
        <p:spPr>
          <a:xfrm>
            <a:off x="611280" y="1052640"/>
            <a:ext cx="7993080" cy="3775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cestovné náhrady </a:t>
            </a: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ška oprávnených výdavkov je obmedzená opatreniami uvedenými v zákone  č. 283/2002 Z. z. o cestovných náhradách v znení neskorších predpisov. V súlade s rešpektovaním zásady hospodárnosti, finančnej efektívnosti a účelovosti je pri použití motorového vozidla organizácie žiadateľa v rámci tejto položky oprávnená náhrada vo výške </a:t>
            </a:r>
            <a:r>
              <a:rPr b="1" lang="sk-SK" sz="1600" spc="-1" strike="noStrike">
                <a:solidFill>
                  <a:srgbClr val="000000"/>
                </a:solidFill>
                <a:latin typeface="Calibri"/>
              </a:rPr>
              <a:t>spotreby pohonných hmôt, </a:t>
            </a:r>
            <a:r>
              <a:rPr b="1" lang="sk-SK" sz="1600" spc="-1" strike="noStrike">
                <a:solidFill>
                  <a:srgbClr val="00b050"/>
                </a:solidFill>
                <a:latin typeface="Calibri"/>
              </a:rPr>
              <a:t>pri použití súkromného motorového vozidla náhrada </a:t>
            </a:r>
            <a:r>
              <a:rPr b="1" lang="sk-SK" sz="1600" spc="-1" strike="noStrike">
                <a:solidFill>
                  <a:srgbClr val="000000"/>
                </a:solidFill>
                <a:latin typeface="Calibri"/>
              </a:rPr>
              <a:t>vo výške cestovného verejnej dopravy</a:t>
            </a:r>
            <a:r>
              <a:rPr b="1" lang="sk-SK" sz="1600" spc="-1" strike="noStrike">
                <a:solidFill>
                  <a:srgbClr val="00b050"/>
                </a:solidFill>
                <a:latin typeface="Calibri"/>
              </a:rPr>
              <a:t>, pri použití prostriedku verejnej dopravy náhrada vo výške cestovného verejnej dopravy. V prípade ubytovania bude akceptovaná cena </a:t>
            </a:r>
            <a:r>
              <a:rPr b="1" lang="sk-SK" sz="1600" spc="-1" strike="noStrike">
                <a:solidFill>
                  <a:srgbClr val="000000"/>
                </a:solidFill>
                <a:latin typeface="Calibri"/>
              </a:rPr>
              <a:t>max. do výšky 60 EUR/noc/osoba </a:t>
            </a:r>
            <a:r>
              <a:rPr b="1" lang="sk-SK" sz="1600" spc="-1" strike="noStrike">
                <a:solidFill>
                  <a:srgbClr val="00b050"/>
                </a:solidFill>
                <a:latin typeface="Calibri"/>
              </a:rPr>
              <a:t>za podmienky, že uvedená cena zodpovedá obvyklým cenám v danom mieste a čase. (tuzemská pracovná cesta); V uvedenej položke je možné zahrnúť aj zahraničné pracovné cesty v zmysle zákona č. 283/2002 Z. z. o cestovných náhradách v znení neskorších predpisov (v prípade leteckej prepravy sa cena letenky preplatí v ekonomickej triede). Do položky sa nezahŕňajú výdavky týkajúce sa údržby a obsluhy motorového vozidla organizácie. Cestovné poistenie nie je oprávneným výdavkom. </a:t>
            </a:r>
            <a:endParaRPr b="0" lang="en-US" sz="16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Obdĺžnik 1"/>
          <p:cNvSpPr/>
          <p:nvPr/>
        </p:nvSpPr>
        <p:spPr>
          <a:xfrm>
            <a:off x="971640" y="1268280"/>
            <a:ext cx="7704000" cy="4231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dávka služieb </a:t>
            </a:r>
            <a:r>
              <a:rPr b="1" lang="sk-SK" sz="1600" spc="-1" strike="noStrike">
                <a:solidFill>
                  <a:srgbClr val="00b050"/>
                </a:solidFill>
                <a:latin typeface="Calibri"/>
              </a:rPr>
              <a:t>- </a:t>
            </a:r>
            <a:r>
              <a:rPr b="1" lang="sk-SK" sz="1600" spc="-1" strike="noStrike">
                <a:solidFill>
                  <a:srgbClr val="000000"/>
                </a:solidFill>
                <a:latin typeface="Calibri"/>
              </a:rPr>
              <a:t>personálne výdavky (odborné činnosti)“ </a:t>
            </a:r>
            <a:r>
              <a:rPr b="1" lang="sk-SK" sz="1600" spc="-1" strike="noStrike">
                <a:solidFill>
                  <a:srgbClr val="00b050"/>
                </a:solidFill>
                <a:latin typeface="Calibri"/>
              </a:rPr>
              <a:t>– odborné činnosti zahŕňajú výdavky predmetnej aktivity vzniknuté na základe iných ako pracovnoprávnych vzťahov (vzťah na základe Obchodného zákonníka, Občianskeho zákonníka, atď. – mandátna zmluva, príkazná zmluva, zmluva o dielo, zmluva o vykonaní diela, atď.). </a:t>
            </a:r>
            <a:br>
              <a:rPr sz="1600"/>
            </a:br>
            <a:r>
              <a:rPr b="1" lang="sk-SK" sz="1600" spc="-1" strike="noStrike">
                <a:solidFill>
                  <a:srgbClr val="00b050"/>
                </a:solidFill>
                <a:latin typeface="Calibri"/>
              </a:rPr>
              <a:t>Zabezpečené napríklad dodávateľsky – dodržať zákon o VO; Uvedené činnosti zvyšujú </a:t>
            </a:r>
            <a:r>
              <a:rPr b="1" lang="sk-SK" sz="1600" spc="-1" strike="noStrike">
                <a:solidFill>
                  <a:srgbClr val="000000"/>
                </a:solidFill>
                <a:latin typeface="Calibri"/>
              </a:rPr>
              <a:t>pridanú hodnotu projektu </a:t>
            </a:r>
            <a:endParaRPr b="0" lang="en-US" sz="16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statné výdavky – priame </a:t>
            </a:r>
            <a:r>
              <a:rPr b="1" lang="sk-SK" sz="1600" spc="-1" strike="noStrike">
                <a:solidFill>
                  <a:srgbClr val="00b050"/>
                </a:solidFill>
                <a:latin typeface="Calibri"/>
              </a:rPr>
              <a:t>zahŕňa výdavky vzniknuté pri realizácii predmetnej aktivity projektu. Ide hlavne o  výdavky na nájom priestorov slúžiaceho k výkonu predmetnej aktivity, nájom a lízing majetku a iné relevantné výdavky nevyhnutné na realizáciu predmetnej aktivity (napr. tlač publikácií určených pre danú aktivitu </a:t>
            </a:r>
            <a:endParaRPr b="0" lang="en-US" sz="16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odpora frekventantov </a:t>
            </a:r>
            <a:r>
              <a:rPr b="1" lang="sk-SK" sz="1600" spc="-1" strike="noStrike">
                <a:solidFill>
                  <a:srgbClr val="00b050"/>
                </a:solidFill>
                <a:latin typeface="Calibri"/>
              </a:rPr>
              <a:t>- zahŕňa výdavky na stravovanie, ubytovanie vrátane internátneho ubytovania, cestovné, občerstvenie poskytnuté v rámci školení </a:t>
            </a:r>
            <a:r>
              <a:rPr b="1" lang="sk-SK" sz="1600" spc="-1" strike="noStrike">
                <a:solidFill>
                  <a:srgbClr val="000000"/>
                </a:solidFill>
                <a:latin typeface="Calibri"/>
              </a:rPr>
              <a:t>max. do výšky 1 500 EUR na projekt </a:t>
            </a:r>
            <a:r>
              <a:rPr b="1" lang="sk-SK" sz="1600" spc="-1" strike="noStrike">
                <a:solidFill>
                  <a:srgbClr val="00b050"/>
                </a:solidFill>
                <a:latin typeface="Calibri"/>
              </a:rPr>
              <a:t>za podmienky, že nesmie byť poskytnuté súčasne v ten istý deň s výdavkom na stravné, výdavky na školiaci materiál a iné. </a:t>
            </a:r>
            <a:r>
              <a:rPr b="1" lang="sk-SK" sz="1600" spc="-1" strike="noStrike">
                <a:solidFill>
                  <a:srgbClr val="000000"/>
                </a:solidFill>
                <a:latin typeface="Calibri"/>
              </a:rPr>
              <a:t>príspevky pre frekventantov  </a:t>
            </a:r>
            <a:r>
              <a:rPr b="1" lang="sk-SK" sz="1600" spc="-1" strike="noStrike">
                <a:solidFill>
                  <a:srgbClr val="00b050"/>
                </a:solidFill>
                <a:latin typeface="Calibri"/>
              </a:rPr>
              <a:t>- o finančné alebo vecné príspevky cieľovej skupine možné zahrnúť aj náhradu mzdy vrátane odvodov zamestnávateľa zúčastnených osôb (frekventantov) </a:t>
            </a:r>
            <a:endParaRPr b="0" lang="en-US" sz="1600" spc="-1" strike="noStrike">
              <a:solidFill>
                <a:srgbClr val="000000"/>
              </a:solidFill>
              <a:latin typeface="Arial"/>
            </a:endParaRPr>
          </a:p>
        </p:txBody>
      </p:sp>
      <p:sp>
        <p:nvSpPr>
          <p:cNvPr id="110" name="Obdĺžnik 2"/>
          <p:cNvSpPr/>
          <p:nvPr/>
        </p:nvSpPr>
        <p:spPr>
          <a:xfrm>
            <a:off x="3250800" y="549360"/>
            <a:ext cx="222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statné výdavk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5160" y="189000"/>
            <a:ext cx="81039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Neoprávnené výdavky</a:t>
            </a:r>
            <a:endParaRPr b="0" lang="en-US" sz="2400" spc="-1" strike="noStrike">
              <a:solidFill>
                <a:srgbClr val="000000"/>
              </a:solidFill>
              <a:latin typeface="Calibri"/>
            </a:endParaRPr>
          </a:p>
        </p:txBody>
      </p:sp>
      <p:sp>
        <p:nvSpPr>
          <p:cNvPr id="112" name=""/>
          <p:cNvSpPr txBox="1"/>
          <p:nvPr/>
        </p:nvSpPr>
        <p:spPr>
          <a:xfrm>
            <a:off x="395280" y="836640"/>
            <a:ext cx="8291520" cy="5616720"/>
          </a:xfrm>
          <a:prstGeom prst="rect">
            <a:avLst/>
          </a:prstGeom>
          <a:noFill/>
          <a:ln w="0">
            <a:noFill/>
          </a:ln>
        </p:spPr>
        <p:txBody>
          <a:bodyPr anchor="t">
            <a:normAutofit/>
          </a:bodyPr>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odávky na priame výdavky projektu - realizácia vzdelávacích a iných hlavných aktivít projektu (napr. tvorba metodík, učebných osnov) prostredníctvom vzťahov, ktoré majú odberateľsko-dodávateľský charakter – vo výške </a:t>
            </a:r>
            <a:r>
              <a:rPr b="1" lang="sk-SK" sz="1600" spc="-1" strike="noStrike">
                <a:solidFill>
                  <a:srgbClr val="000000"/>
                </a:solidFill>
                <a:latin typeface="Calibri"/>
              </a:rPr>
              <a:t>viac ako max. 10% </a:t>
            </a:r>
            <a:r>
              <a:rPr b="1" lang="sk-SK" sz="1600" spc="-1" strike="noStrike">
                <a:solidFill>
                  <a:srgbClr val="00b050"/>
                </a:solidFill>
                <a:latin typeface="Calibri"/>
              </a:rPr>
              <a:t>z oprávnených priamych výdavkov rozpočtu – nezapočítava sa riziková prirážka (dodávkou na priame výdavky projektu sa rozumie vykonávanie činností spojených so vzdelávacími a inými hlavnými aktivitami projektu, ktoré sú vykonávané mimo pracovnoprávnych (napr. pracovný pomer) alebo obdobných vzťahov (napr. štátnozamestnanecký pomer);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obstaranie zariadenia/vybavenia a didaktických prostriedkov  (vrátane nehmotného majetku) pre hlavné aktivity projektu, ktoré </a:t>
            </a:r>
            <a:r>
              <a:rPr b="1" lang="sk-SK" sz="1600" spc="-1" strike="noStrike">
                <a:solidFill>
                  <a:srgbClr val="000000"/>
                </a:solidFill>
                <a:latin typeface="Calibri"/>
              </a:rPr>
              <a:t>presiahnu maximálne povolenú hranicu 30% </a:t>
            </a:r>
            <a:r>
              <a:rPr b="1" lang="sk-SK" sz="1600" spc="-1" strike="noStrike">
                <a:solidFill>
                  <a:srgbClr val="00b050"/>
                </a:solidFill>
                <a:latin typeface="Calibri"/>
              </a:rPr>
              <a:t>z oprávnených priamych výdavkov rozpočtu (nezapočítava sa riziková prirážka);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úroky z úverov a pôžičiek;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b050"/>
                </a:solidFill>
                <a:latin typeface="Calibri"/>
              </a:rPr>
              <a:t>miestne poplatky, ktoré nemajú priamu väzbu na projekt;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právne spory ako i sankčné poplatky, pokuty a penále, prípadne ďalšie sankčné výdavky, či už dohodnuté v zmluvách alebo vznikajú z iných príčin a tzv. balíky produktov (služieb), ktoré poskytujú banky k úverom;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nákup infraštruktúry, pozemku a nehnuteľnosti;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riziková prirážka rozpočtovaná vo výške viac ako 5% oprávnených výdavkov (priamych a nepriamych výdavkov projektu);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Obdĺžnik 1"/>
          <p:cNvSpPr/>
          <p:nvPr/>
        </p:nvSpPr>
        <p:spPr>
          <a:xfrm>
            <a:off x="684360" y="1582560"/>
            <a:ext cx="7991280" cy="44478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Arial"/>
              </a:rPr>
              <a:t>bankové poplatky; </a:t>
            </a:r>
            <a:endParaRPr b="0" lang="en-US" sz="1600" spc="-1" strike="noStrike">
              <a:solidFill>
                <a:srgbClr val="000000"/>
              </a:solidFill>
              <a:latin typeface="Arial"/>
            </a:endParaRPr>
          </a:p>
          <a:p>
            <a:pPr marL="285840" indent="-285840" algn="jus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Arial"/>
              </a:rPr>
              <a:t>debetné úroky;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bankové záruky;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b050"/>
                </a:solidFill>
                <a:latin typeface="Calibri"/>
              </a:rPr>
              <a:t>vratná daň z pridanej hodnoty;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b050"/>
                </a:solidFill>
                <a:latin typeface="Calibri"/>
              </a:rPr>
              <a:t>obstaranie, odpisy dopravných prostriedkov (aj použitých);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výdavky, ktoré presiahnu percentuálne výšky určené v písomnom vyzvaní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tvorba sociálneho fondu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euvedené v zozname oprávnených výdavkov</a:t>
            </a:r>
            <a:endParaRPr b="0" lang="en-US" sz="1600" spc="-1" strike="noStrike">
              <a:solidFill>
                <a:srgbClr val="000000"/>
              </a:solidFill>
              <a:latin typeface="Arial"/>
            </a:endParaRPr>
          </a:p>
          <a:p>
            <a:pPr marL="285840" indent="-28584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ĺžnik 2"/>
          <p:cNvSpPr/>
          <p:nvPr/>
        </p:nvSpPr>
        <p:spPr>
          <a:xfrm>
            <a:off x="2972520" y="549360"/>
            <a:ext cx="293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Neoprávnené výdavk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Obdĺžnik 1"/>
          <p:cNvSpPr/>
          <p:nvPr/>
        </p:nvSpPr>
        <p:spPr>
          <a:xfrm>
            <a:off x="1403280" y="549360"/>
            <a:ext cx="66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Dokumentácia k ŽoP – personálne výdavky intern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Obdĺžnik 2"/>
          <p:cNvSpPr/>
          <p:nvPr/>
        </p:nvSpPr>
        <p:spPr>
          <a:xfrm>
            <a:off x="755640" y="1052640"/>
            <a:ext cx="7632720" cy="6881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Personálne výdavky - interné </a:t>
            </a:r>
            <a:r>
              <a:rPr b="1" lang="sk-SK" sz="1600" spc="-1" strike="noStrike">
                <a:solidFill>
                  <a:srgbClr val="00b050"/>
                </a:solidFill>
                <a:latin typeface="Calibri"/>
              </a:rPr>
              <a:t>(pracovnoprávne vzťahy - pracovný pomer, služobný pomer, dohody o prácach vykonaných mimo pracovného pomeru) </a:t>
            </a: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acovná zmluva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acovné výkazy a kumulatívny mesačný výkaz práce (napr. prílohy č. 3a a 3b  Príručky pre prijímateľa. Pracovný výkaz – príloha č. 3a (bez prílohy č 3b.) sa predkladá v prípade zamestnanca, ktorý pracuje v rámci svojich pracovných činností </a:t>
            </a:r>
            <a:r>
              <a:rPr b="1" lang="sk-SK" sz="1800" spc="-1" strike="noStrike">
                <a:solidFill>
                  <a:srgbClr val="000000"/>
                </a:solidFill>
                <a:latin typeface="Arial"/>
              </a:rPr>
              <a:t>iba na jednom projekte </a:t>
            </a:r>
            <a:r>
              <a:rPr b="1" lang="sk-SK" sz="1600" spc="-1" strike="noStrike">
                <a:solidFill>
                  <a:srgbClr val="00b050"/>
                </a:solidFill>
                <a:latin typeface="Calibri"/>
              </a:rPr>
              <a:t>(bez ohľadu na ustanovený pracovný čas) na základe jedného pracovnoprávneho vzťahu alebo obdobného vzťahu, t.j.</a:t>
            </a:r>
            <a:r>
              <a:rPr b="0" lang="sk-SK" sz="1800" spc="-1" strike="noStrike">
                <a:solidFill>
                  <a:srgbClr val="000000"/>
                </a:solidFill>
                <a:latin typeface="Arial"/>
              </a:rPr>
              <a:t> </a:t>
            </a:r>
            <a:r>
              <a:rPr b="1" lang="sk-SK" sz="1800" spc="-1" strike="noStrike">
                <a:solidFill>
                  <a:srgbClr val="000000"/>
                </a:solidFill>
                <a:latin typeface="Arial"/>
              </a:rPr>
              <a:t>nevykonáva iné činnosti </a:t>
            </a:r>
            <a:r>
              <a:rPr b="1" lang="sk-SK" sz="1600" spc="-1" strike="noStrike">
                <a:solidFill>
                  <a:srgbClr val="00b050"/>
                </a:solidFill>
                <a:latin typeface="Calibri"/>
              </a:rPr>
              <a:t>financované prostredníctvom </a:t>
            </a:r>
            <a:r>
              <a:rPr b="1" lang="sk-SK" sz="1800" spc="-1" strike="noStrike">
                <a:solidFill>
                  <a:srgbClr val="000000"/>
                </a:solidFill>
                <a:latin typeface="Arial"/>
              </a:rPr>
              <a:t>verejných prostriedkov </a:t>
            </a:r>
            <a:r>
              <a:rPr b="1" lang="sk-SK" sz="1600" spc="-1" strike="noStrike">
                <a:solidFill>
                  <a:srgbClr val="00b050"/>
                </a:solidFill>
                <a:latin typeface="Calibri"/>
              </a:rPr>
              <a:t>u rovnakého zamestnávateľa (napr. ďalšia pracovná zmluva alebo dohoda o vykonaní práce) alebo iných zamestnávateľov, resp. pre iné právnické alebo fyzické osoby (bez ohľadu na povahu zmluvných vzťahov), pričom súčet všetkých pracovných pozícií na projekt (pracovná činnosť rozdelená do niekoľkých rozpočtových položiek) tvorí jeden pracovnoprávny vzťah</a:t>
            </a:r>
            <a:r>
              <a:rPr b="0" lang="sk-SK" sz="1800" spc="-1" strike="noStrike">
                <a:solidFill>
                  <a:srgbClr val="000000"/>
                </a:solidFill>
                <a:latin typeface="Arial"/>
              </a:rPr>
              <a:t>.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Obdĺžnik 1"/>
          <p:cNvSpPr/>
          <p:nvPr/>
        </p:nvSpPr>
        <p:spPr>
          <a:xfrm>
            <a:off x="900000" y="981000"/>
            <a:ext cx="8136000" cy="466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1" lang="sk-SK" sz="1600" spc="-1" strike="noStrike">
                <a:solidFill>
                  <a:srgbClr val="00b050"/>
                </a:solidFill>
                <a:latin typeface="Calibri"/>
              </a:rPr>
              <a:t>V prípade, ak zamestnanec má na projekte 100% úväzok, t.j. pracuje ib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na jednom projekte na základe jedného pracovno-právneho vzťahu aleb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obdobného vzťahu t.j. </a:t>
            </a:r>
            <a:r>
              <a:rPr b="1" lang="sk-SK" sz="1800" spc="-1" strike="noStrike">
                <a:solidFill>
                  <a:srgbClr val="000000"/>
                </a:solidFill>
                <a:latin typeface="Arial"/>
              </a:rPr>
              <a:t>nevykonáva iné činnosti </a:t>
            </a:r>
            <a:r>
              <a:rPr b="1" lang="sk-SK" sz="1600" spc="-1" strike="noStrike">
                <a:solidFill>
                  <a:srgbClr val="00b050"/>
                </a:solidFill>
                <a:latin typeface="Calibri"/>
              </a:rPr>
              <a:t>financované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prostredníctvom verejných prostriedkov u rovnakého zamestnávateľ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napr. ďalšia pracovná zmluva alebo dohoda o vykonaní práce) aleb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iných zamestnávateľov, resp. pre iné právnické alebo fyzické osoby (bez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ohľadu na povahu zmluvných vzťahov) </a:t>
            </a:r>
            <a:r>
              <a:rPr b="1" lang="sk-SK" sz="1800" spc="-1" strike="noStrike">
                <a:solidFill>
                  <a:srgbClr val="000000"/>
                </a:solidFill>
                <a:latin typeface="Arial"/>
              </a:rPr>
              <a:t>pracovný výkaz nie je potrebné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     </a:t>
            </a:r>
            <a:r>
              <a:rPr b="1" lang="sk-SK" sz="1800" spc="-1" strike="noStrike">
                <a:solidFill>
                  <a:srgbClr val="000000"/>
                </a:solidFill>
                <a:latin typeface="Arial"/>
              </a:rPr>
              <a:t>vypracovať a predložiť</a:t>
            </a:r>
            <a:r>
              <a:rPr b="0" lang="sk-SK" sz="1800" spc="-1" strike="noStrike">
                <a:solidFill>
                  <a:srgbClr val="000000"/>
                </a:solidFill>
                <a:latin typeface="Arial"/>
              </a:rPr>
              <a:t>. </a:t>
            </a:r>
            <a:r>
              <a:rPr b="1" lang="sk-SK" sz="1600" spc="-1" strike="noStrike">
                <a:solidFill>
                  <a:srgbClr val="00b050"/>
                </a:solidFill>
                <a:latin typeface="Calibri"/>
              </a:rPr>
              <a:t>Netýka sa zamestnancov, ktorých pracovná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činnosť </a:t>
            </a:r>
            <a:r>
              <a:rPr b="1" lang="sk-SK" sz="1800" spc="-1" strike="noStrike">
                <a:solidFill>
                  <a:srgbClr val="ff0000"/>
                </a:solidFill>
                <a:latin typeface="Arial"/>
              </a:rPr>
              <a:t>tvoriaca jeden pracovnoprávny vzťah je rozdelená d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Arial"/>
              </a:rPr>
              <a:t>     </a:t>
            </a:r>
            <a:r>
              <a:rPr b="1" lang="sk-SK" sz="1800" spc="-1" strike="noStrike">
                <a:solidFill>
                  <a:srgbClr val="ff0000"/>
                </a:solidFill>
                <a:latin typeface="Arial"/>
              </a:rPr>
              <a:t>niekoľkých rozpočtových položiek</a:t>
            </a:r>
            <a:r>
              <a:rPr b="0" lang="sk-SK" sz="1800" spc="-1" strike="noStrike">
                <a:solidFill>
                  <a:srgbClr val="000000"/>
                </a:solidFill>
                <a:latin typeface="Arial"/>
              </a:rPr>
              <a:t>. </a:t>
            </a:r>
            <a:endParaRPr b="0" lang="en-US" sz="1800" spc="-1" strike="noStrike">
              <a:solidFill>
                <a:srgbClr val="000000"/>
              </a:solidFill>
              <a:latin typeface="Arial"/>
            </a:endParaRPr>
          </a:p>
          <a:p>
            <a:pPr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mzdový list, resp. výplatnú pásku, </a:t>
            </a:r>
            <a:endParaRPr b="0" lang="en-US" sz="1600" spc="-1" strike="noStrike">
              <a:solidFill>
                <a:srgbClr val="000000"/>
              </a:solidFill>
              <a:latin typeface="Arial"/>
            </a:endParaRPr>
          </a:p>
          <a:p>
            <a:pPr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umárny prehľad príloha č. 11a alebo príloha č. 11b (podľa typu organizácie) Príručky pre Prijímateľa  spôsob výpočtu oprávnenej mzdy – (ak relevantné), </a:t>
            </a:r>
            <a:endParaRPr b="0" lang="en-US" sz="1600" spc="-1" strike="noStrike">
              <a:solidFill>
                <a:srgbClr val="000000"/>
              </a:solidFill>
              <a:latin typeface="Arial"/>
            </a:endParaRPr>
          </a:p>
          <a:p>
            <a:pPr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bankový výpis (originál alebo overená kópia), resp. výdavkový pokladničný doklad (originál alebo overená kópia) dokumentujúci reálnu úhradu mzdy - prijímateľ je povinný označiť na bankovom výpise okrem úhrady oprávnenej mzdy zamestnancovi aj zodpovedajúce odvody vrátane dane z príjmov fyzických osôb, </a:t>
            </a:r>
            <a:endParaRPr b="0" lang="en-US" sz="1600" spc="-1" strike="noStrike">
              <a:solidFill>
                <a:srgbClr val="000000"/>
              </a:solidFill>
              <a:latin typeface="Arial"/>
            </a:endParaRPr>
          </a:p>
          <a:p>
            <a:pPr>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Obdĺžnik 2"/>
          <p:cNvSpPr/>
          <p:nvPr/>
        </p:nvSpPr>
        <p:spPr>
          <a:xfrm>
            <a:off x="1187280" y="476280"/>
            <a:ext cx="756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Arial"/>
                <a:ea typeface="Arial"/>
              </a:rPr>
              <a:t>Dokumentácia k ŽoP – personálne  výdavky inter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Obdĺžnik 1"/>
          <p:cNvSpPr/>
          <p:nvPr/>
        </p:nvSpPr>
        <p:spPr>
          <a:xfrm>
            <a:off x="1042920" y="981000"/>
            <a:ext cx="7632720" cy="5390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ohody o vykonaní práce  </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ohoda o vykonaní práce, resp. iná dohoda v zmysle Zákonníka práce,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acovné výkazy a kumulatívny mesačný výkaz práce v zmysle Príručky pre Prijímateľa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mzdový list, resp. výplatná páska (ak relevantné),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pôsob výpočtu oprávnenej výšky výdavku (ak relevantné),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bankový výpis (originál alebo overená kópia), resp. výdavkový pokladničný doklad (originál alebo overená kópia) dokumentujúci reálnu úhradu - prijímateľ je povinný označiť na bankovom výpise okrem úhrady oprávnenej mzdy zamestnancovi aj zodpovedajúce odvody vrátane dane z príjmov fyzických osôb,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umárny prehľad (príloha č. 11a, 11b a 11c – podľa typu organizácie) </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0" name="Obdĺžnik 2"/>
          <p:cNvSpPr/>
          <p:nvPr/>
        </p:nvSpPr>
        <p:spPr>
          <a:xfrm>
            <a:off x="1042920" y="476280"/>
            <a:ext cx="727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Arial"/>
                <a:ea typeface="Arial"/>
              </a:rPr>
              <a:t>Dokumentácia k ŽoP - DoV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Obdĺžnik 1"/>
          <p:cNvSpPr/>
          <p:nvPr/>
        </p:nvSpPr>
        <p:spPr>
          <a:xfrm>
            <a:off x="971640" y="549360"/>
            <a:ext cx="73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Dokumentácia k ŽoP – personálne výdavky externé</a:t>
            </a:r>
            <a:endParaRPr b="0" lang="en-US" sz="2400" spc="-1" strike="noStrike">
              <a:solidFill>
                <a:srgbClr val="000000"/>
              </a:solidFill>
              <a:latin typeface="Arial"/>
            </a:endParaRPr>
          </a:p>
        </p:txBody>
      </p:sp>
      <p:sp>
        <p:nvSpPr>
          <p:cNvPr id="122" name="Obdĺžnik 2"/>
          <p:cNvSpPr/>
          <p:nvPr/>
        </p:nvSpPr>
        <p:spPr>
          <a:xfrm>
            <a:off x="826920" y="1197000"/>
            <a:ext cx="7705800" cy="42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Personálne výdavky - externé - dodávka služieb </a:t>
            </a:r>
            <a:r>
              <a:rPr b="1" lang="sk-SK" sz="1600" spc="-1" strike="noStrike">
                <a:solidFill>
                  <a:srgbClr val="00b050"/>
                </a:solidFill>
                <a:latin typeface="Calibri"/>
              </a:rPr>
              <a:t>(zmluvné vzťahy na základe napr. Obchodného zákonníka, Občianskeho zákonníka - zmluvné vzťahy mimo pracovnoprávnych vzťahov, služobných pomerov)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pôsob výpočtu oprávnenej výšky výdavku (ak relevantné), </a:t>
            </a:r>
            <a:endParaRPr b="0" lang="en-US" sz="1600" spc="-1" strike="noStrike">
              <a:solidFill>
                <a:srgbClr val="000000"/>
              </a:solidFill>
              <a:latin typeface="Arial"/>
            </a:endParaRPr>
          </a:p>
          <a:p>
            <a:pPr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ísomná zmluva v súlade s platným všeobecne záväzným právnym predpisom,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Za písomnú zmluvu sa nepovažuje objednávka. Uvedený pojem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písomná zmluva“ je chápaná ako dokument, ktorý upravuje podstatné,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pravidelné a iné náležitosti dohodnuté v písomnej forme uzavreté v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jednom dokumente. Na rozdiel od objednávky, písomná zmluv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obsahuje aj práva a povinnosti zmluvných strán a ďalšie skutočnosti. V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prípade, ak písomná zmluva bola predložená v rámci kontroly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obstarávania služieb nie je potrebné ju opätovne predkladať s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žiadosťou o platbu, prijímateľ uvedie v Zozname všeobecných príloh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ŽoP, že predmetná zmluva bola súčasťou dokumentácie verejnéh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obstarávania. </a:t>
            </a:r>
            <a:r>
              <a:rPr b="1" lang="sk-SK" sz="1600" spc="-1" strike="noStrike">
                <a:solidFill>
                  <a:srgbClr val="00b050"/>
                </a:solidFill>
                <a:latin typeface="Calibri"/>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pôsob financovania</a:t>
            </a:r>
            <a:endParaRPr b="0" lang="en-US" sz="36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ôže použiť pri implementácii projektu systém refundácie – úhrada z vlastných finančných prostriedkov a následné nárokovanie výdavku na MŠVVaŠ SR  ako sprostredkovateľský orgán OP ĽZ (ďalej „SO“)</a:t>
            </a:r>
            <a:endParaRPr b="0" lang="en-US" sz="1800" spc="-1" strike="noStrike">
              <a:solidFill>
                <a:srgbClr val="000000"/>
              </a:solidFill>
              <a:latin typeface="Calibri"/>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alebo systém zálohových platieb.</a:t>
            </a:r>
            <a:endParaRPr b="0" lang="en-US" sz="1800" spc="-1" strike="noStrike">
              <a:solidFill>
                <a:srgbClr val="000000"/>
              </a:solidFill>
              <a:latin typeface="Calibri"/>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pôsob financovania bol pre konkrétnych prijímateľov zadefinovaný v Zmluve o poskytnutí nenávratného finančného príspevku.</a:t>
            </a:r>
            <a:endParaRPr b="0" lang="en-US" sz="1800" spc="-1" strike="noStrike">
              <a:solidFill>
                <a:srgbClr val="000000"/>
              </a:solidFill>
              <a:latin typeface="Calibri"/>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Úspešní prijímatelia  sú povinní v prvej polovici dĺžky realizácie projektu predložiť prostredníctvom žiadostí o platbu (žiadosti o priebežnú platbu/zúčtovanie zálohovej platby) výdavky v minimálnej výške 20 % z celkových oprávnených výdavkov projektu uvedených v zmluve o NFP. Nesplnenie tejto  zmluvnej podmienky bude automaticky považované za závažné porušenie zmluvy o  NFP s možnosťou poskytovateľa odstúpiť od zmluvy o NFP.</a:t>
            </a:r>
            <a:endParaRPr b="0" lang="en-US" sz="1800" spc="-1" strike="noStrike">
              <a:solidFill>
                <a:srgbClr val="000000"/>
              </a:solidFill>
              <a:latin typeface="Calibri"/>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Obdĺžnik 1"/>
          <p:cNvSpPr/>
          <p:nvPr/>
        </p:nvSpPr>
        <p:spPr>
          <a:xfrm>
            <a:off x="826920" y="907920"/>
            <a:ext cx="7490160" cy="39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i vzdelávacích aktivitách (napr. prednáška, lektorovanie) je potrebné doložiť k personálnym výdavkom (interným ako aj externým - dodávka služieb) </a:t>
            </a:r>
            <a:r>
              <a:rPr b="1" lang="sk-SK" sz="1800" spc="-1" strike="noStrike">
                <a:solidFill>
                  <a:srgbClr val="000000"/>
                </a:solidFill>
                <a:latin typeface="Arial"/>
              </a:rPr>
              <a:t>prezenčnú listinu (príloha č. 13a tejto príručky) </a:t>
            </a:r>
            <a:r>
              <a:rPr b="1" lang="sk-SK" sz="1600" spc="-1" strike="noStrike">
                <a:solidFill>
                  <a:srgbClr val="00b050"/>
                </a:solidFill>
                <a:latin typeface="Calibri"/>
              </a:rPr>
              <a:t>podpísanú lektorom, učiteľom, resp. osobou vykonávajúcou vzdelávaciu aktivitu </a:t>
            </a:r>
            <a:r>
              <a:rPr b="0" lang="sk-SK" sz="1800" spc="-1" strike="noStrike">
                <a:solidFill>
                  <a:srgbClr val="000000"/>
                </a:solidFill>
                <a:latin typeface="Arial"/>
              </a:rPr>
              <a:t>a </a:t>
            </a:r>
            <a:r>
              <a:rPr b="1" lang="sk-SK" sz="1800" spc="-1" strike="noStrike">
                <a:solidFill>
                  <a:srgbClr val="000000"/>
                </a:solidFill>
                <a:latin typeface="Arial"/>
              </a:rPr>
              <a:t>časový harmonogram </a:t>
            </a:r>
            <a:r>
              <a:rPr b="1" lang="sk-SK" sz="1600" spc="-1" strike="noStrike">
                <a:solidFill>
                  <a:srgbClr val="00b050"/>
                </a:solidFill>
                <a:latin typeface="Calibri"/>
              </a:rPr>
              <a:t>uskutočnenia sa jednotlivých aktivít (prednášok, cvičení,...).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i vzdelávacích aktivitách formou dištančného vzdelávania môže prezenčnú listinu nahradiť iná adekvátna podporná dokumentácia s rovnakou výpovednou hodnotou (napr. výstupná zostava z e-learningového systému, alebo možnosť voľného prístupu zamestnanca SO do e-learningového systému za účelom operatívnej kontroly). </a:t>
            </a:r>
            <a:endParaRPr b="0" lang="en-US" sz="16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bdĺžnik 2"/>
          <p:cNvSpPr/>
          <p:nvPr/>
        </p:nvSpPr>
        <p:spPr>
          <a:xfrm>
            <a:off x="2862360" y="4762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Arial"/>
                <a:ea typeface="Arial"/>
              </a:rPr>
              <a:t>Dokumentácia k Ž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Obdĺžnik 1"/>
          <p:cNvSpPr/>
          <p:nvPr/>
        </p:nvSpPr>
        <p:spPr>
          <a:xfrm>
            <a:off x="900000" y="476280"/>
            <a:ext cx="763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Arial"/>
                <a:ea typeface="Arial"/>
              </a:rPr>
              <a:t>Dokumentácia k ŽoP – cestovné náhrad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Obdĺžnik 2"/>
          <p:cNvSpPr/>
          <p:nvPr/>
        </p:nvSpPr>
        <p:spPr>
          <a:xfrm>
            <a:off x="755640" y="1308240"/>
            <a:ext cx="7920000" cy="6580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Cestovné náhrady (tuzemské a zahraničné pracovné cesty) - riadiaci, administratívny (vrátane monitorovania a publicity) a odborný personá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cestovný príkaz,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cestovný lístok, palubný lístok (ak relevantné),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oklad za ubytovanie,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ísomná správa zo služobnej cesty,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i využití súkromného motorového vozidla pre služobné účely57: spôsob výpočtu oprávnených výdavkov (je postačujúce, ak postup pre výpočet je uvedený v cestovnom príkaze), doklad o výške cestovného prostredníctvom verejnej dopravy (napr. potvrdenie dopravcu),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bankový výpis dokumentujúci reálnu úhradu, resp. výdavkový pokladničný doklad dokumentujúci reálnu úhradu (ak relevantné - cestovné príkazy môžu obsahovať pokladničný doklad),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Obdĺžnik 1"/>
          <p:cNvSpPr/>
          <p:nvPr/>
        </p:nvSpPr>
        <p:spPr>
          <a:xfrm>
            <a:off x="1258920" y="476280"/>
            <a:ext cx="626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Arial"/>
                <a:ea typeface="Arial"/>
              </a:rPr>
              <a:t>Dokumentácia k ŽoP cestovné náhrad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Obdĺžnik 2"/>
          <p:cNvSpPr/>
          <p:nvPr/>
        </p:nvSpPr>
        <p:spPr>
          <a:xfrm>
            <a:off x="468360" y="1052640"/>
            <a:ext cx="8424720" cy="450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 prípade stravného, cestovného alebo ubytovacích služieb poskytnutých na faktúru (prílohami k faktúre je písomná objednávka alebo písomná zmluva, dodací list, resp. preberací protokol a písomná dokumentácia k verejnému obstarávaniu - ak relevantné) ako podporná dokumentácia sa predloží prezenčná listina, na ktorej bude uvedené prebratie stravného, cestovného alebo poskytnutie ubytovania účastníkmi a presný termín a čas konania aktivity (je možné vyhotoviť aj samostatnú listinu - príloha 9 na prevzatie stravného, cestovného alebo poskytnutie ubytovania účastníkmi s presným termínom a časom konania aktivity),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i využití motorového vozidla organizácie pre služobné účely: žiadanka na prepravu, kniha jázd s označenými pracovnými cestami súvisiacimi s projektom, faktúra alebo pokladničný blok ERP z nákupu PHM zodpovedajúce času uskutočnenia pracovnej cesty, overená kópia technického preukazu, zákonná poistka (ak relevantné), spôsob výpočtu oprávnených výdavkov na pohonné hmoty,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oklady o ďalších nevyhnutných výdavkoch (napr. taxi služba vrátane písomného zdôvodnenia použitia taxi služby, pozri časť 2.3.4.1 písm. K).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pôsob výpočtu oprávnenej výšky výdavku (ak relevantné). </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Limity cestovných náhrad musia byť v súlade s aktuálnymi opatreniami k zákonu č. 283/2002 o cestovných náhradách v znení neskorších predpisov. </a:t>
            </a:r>
            <a:r>
              <a:rPr b="0" lang="sk-SK"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2420640"/>
            <a:ext cx="8186760" cy="23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br>
              <a:rPr sz="4400"/>
            </a:br>
            <a:br>
              <a:rPr sz="4400"/>
            </a:br>
            <a:r>
              <a:rPr b="1" lang="sk-SK" sz="1800" spc="-1" strike="noStrike">
                <a:solidFill>
                  <a:srgbClr val="e46c0a"/>
                </a:solidFill>
                <a:latin typeface="Calibri"/>
              </a:rPr>
              <a:t>Zdroj: Príručka pre Prijímateľa OPĽZ</a:t>
            </a:r>
            <a:br>
              <a:rPr sz="1800"/>
            </a:br>
            <a:r>
              <a:rPr b="0" lang="sk-SK" sz="1800" spc="-1" strike="noStrike" u="sng">
                <a:solidFill>
                  <a:srgbClr val="0000ff"/>
                </a:solidFill>
                <a:uFillTx/>
                <a:latin typeface="Calibri"/>
                <a:hlinkClick r:id="rId2"/>
              </a:rPr>
              <a:t>www.minedu.sk</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Komunikácia so SO</a:t>
            </a:r>
            <a:endParaRPr b="0" lang="en-US" sz="3600" spc="-1" strike="noStrike">
              <a:solidFill>
                <a:srgbClr val="000000"/>
              </a:solidFill>
              <a:latin typeface="Calibri"/>
            </a:endParaRPr>
          </a:p>
        </p:txBody>
      </p:sp>
      <p:sp>
        <p:nvSpPr>
          <p:cNvPr id="51" name=""/>
          <p:cNvSpPr txBox="1"/>
          <p:nvPr/>
        </p:nvSpPr>
        <p:spPr>
          <a:xfrm>
            <a:off x="457200" y="981000"/>
            <a:ext cx="8229600" cy="51451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komunikuje s SO prostredníctvom systému ITMS 2014+, verejná časť.</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ístup do ITMS 2014+ má každý prijímateľ, ktorému bol poskytnutý nenávratný finančný príspevok a má podpísanú Zmluvu o poskytnutí NFP k výzve „Čitateľská, matematická a prírodovedná gramotnosť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platbu prijímateľ vypracuje v systéme ITMS 2014+, verejná časť. Žiadosti o zálohovú platbu predkladá prijímateľ na SO v elektronickej a písomnej podobe vždy podľa potreby a nároku vzniku na zálohovú platbu.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zúčtovanie zálohovej platby, resp. priebežnú platbu  – prijímateľ predkladá na SO v elektronickej a písomnej podobe najmenej </a:t>
            </a:r>
            <a:r>
              <a:rPr b="1" lang="sk-SK" sz="1800" spc="-1" strike="noStrike">
                <a:solidFill>
                  <a:srgbClr val="ff0000"/>
                </a:solidFill>
                <a:latin typeface="Calibri"/>
              </a:rPr>
              <a:t>jedenkrát za 6 kalendárnych mesiacov </a:t>
            </a:r>
            <a:r>
              <a:rPr b="1" lang="sk-SK" sz="1800" spc="-1" strike="noStrike">
                <a:solidFill>
                  <a:srgbClr val="00b050"/>
                </a:solidFill>
                <a:latin typeface="Calibri"/>
              </a:rPr>
              <a:t>resp. za 2 kalendárne mesiace vždy k 15. dňu nasledujúceho mesiaca počas realizácie hlavných aktivít projektu tak, aby počas prvej polovice doby realizácie hlavných aktivít projektu suma v predložených Žiadostiach o platbu predstavovala výšku </a:t>
            </a:r>
            <a:r>
              <a:rPr b="1" lang="sk-SK" sz="1800" spc="-1" strike="noStrike">
                <a:solidFill>
                  <a:srgbClr val="ff0000"/>
                </a:solidFill>
                <a:latin typeface="Calibri"/>
              </a:rPr>
              <a:t>minimálne 20% </a:t>
            </a:r>
            <a:r>
              <a:rPr b="1" lang="sk-SK" sz="1800" spc="-1" strike="noStrike">
                <a:solidFill>
                  <a:srgbClr val="00b050"/>
                </a:solidFill>
                <a:latin typeface="Calibri"/>
              </a:rPr>
              <a:t>z celkových oprávnených výdavkov projektu.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Komunikácia so SO</a:t>
            </a:r>
            <a:endParaRPr b="0" lang="en-US" sz="3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platbu prijímateľ vypracuje v systéme ITMS 2014+, verejná časť.</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pracovanie žiadosti o platbu je podrobne uvedené v ITMS 2014+ v časti „e-lerning“. Sú zadefinované jednotlivé kroky, ktoré je nutné urobiť, aby mohol prijímateľ vystaviť žiadosť o platbu. Súbor je zvukový, ale pre nepočujúcich je aj písomný.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urz Žiadosť o platbu (ŽoP) – verejná časť ITMS2014+ je prioritne určený pre prijímateľov finančných prostriedkov z Európskych štrukturálnych a investičných fondov (EŠIF). Kurz simuluje prácu v aplikácii ITMS2014+ a prevedie vás krokmi nutnými pre vypracovanie jednotlivých typov žiadosti o platbu (ŽoP).</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 </a:t>
            </a:r>
            <a:r>
              <a:rPr b="1" lang="sk-SK" sz="1800" spc="-1" strike="noStrike">
                <a:solidFill>
                  <a:srgbClr val="00b050"/>
                </a:solidFill>
                <a:latin typeface="Calibri"/>
              </a:rPr>
              <a:t>Interaktívny kurz je možné spustiť v internetových prehliadačoch Microsoft Internet Explorer, Google Chrome a Safari. Pokiaľ využívate iný prehliadač, môžete mať so spustením kurzu problém.</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Inštruktáž o ovládacích prvkoch kurzu spustíte prostredníctvom znaku  „i“  v pravom hornom rohu videa.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sun medzi jednotlivými snímkami kurzu je možný rozkliknutím tlačidla „Menu“ v pravom hornom rohu videa alebo kliknutím na znak  &gt;&gt;  v ľavom hornom rohu vide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účasťou videa je zvukový komentár, preto je potrebné mať počas jeho sledovania zapnutý zvuk. V rámci kurzu  je v pravom hornom rohu videa dostupné tlačidlo „Prepis zvukovej stopy“, ktoré slúži na zobrazenie prepisu hovoreného textu.</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urz pozostáva z 9 samostatných častí, v nasledovnom odporúčanom poradí a v uvedenom trvaní:</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Priebežná platba (čas trvania 25:47)</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 Predfinancovanie (čas trvania 25:31)</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Poskytnutie zálohovej platby (čas trvania 26:00)</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Zúčtovanie predfinancovania (čas trvania 23:16)</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 Zúčtovanie zálohovej platby (čas trvania 23:37)</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Účtovné doklady (čas trvania 17:22)</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Deklarované výdavky (čas trvania 19:51)</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Monitorovacie údaje (čas trvania 06:19)</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ontrola a odoslanie žiadosti (čas trvania 04:1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notková Marcela</cp:lastModifiedBy>
  <cp:lastPrinted>2019-03-04T18:17:40Z</cp:lastPrinted>
  <dcterms:modified xsi:type="dcterms:W3CDTF">2019-03-06T15:25:42Z</dcterms:modified>
  <cp:revision>190</cp:revision>
  <dc:subject/>
  <dc:title>Snímka 1</dc:title>
</cp:coreProperties>
</file>